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B206-E541-46B6-BD0A-2E46782C5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830C-7FDF-4B11-A9A1-385A7A2C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8C05-A33B-4818-8011-84F3CE58C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D946-3B9E-44D5-8D6B-B873F4CB6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8DB0-226A-477E-9557-5C8090BA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2B9D-D556-42B0-8679-8A36ECFF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ACBB-FE44-40BE-8639-BC3256FC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C004-213B-4285-BB57-3DFCAADD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3AA5-E5F8-45BD-9028-124E4968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36CD-0188-4B57-A174-91829A1A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FA1E-EDD6-4691-8AC0-71BD6DCE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BD43-F8F1-4414-9CDA-608832D7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6BFC-BC92-4CE5-B19F-5A427F18D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boutnuclear.org/i/the_atom/helium-anim.gif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hpwt.de/Intradio.gif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oaktivitä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Strahlu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ositiv geladene He-Kern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Strahlu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negativ geladene Elektrone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Strahlu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ohne Ladung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iereic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ktro-magnetische Strah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2044800"/>
            <a:ext cx="424800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sche Wirk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511200"/>
                <a:tab algn="l" pos="766800"/>
                <a:tab algn="l" pos="1022400"/>
                <a:tab algn="l" pos="1278000"/>
                <a:tab algn="l" pos="1533600"/>
                <a:tab algn="l" pos="1789200"/>
                <a:tab algn="l" pos="2044800"/>
                <a:tab algn="l" pos="2300400"/>
                <a:tab algn="l" pos="2556000"/>
                <a:tab algn="l" pos="2811600"/>
                <a:tab algn="l" pos="3067200"/>
                <a:tab algn="l" pos="3322800"/>
                <a:tab algn="l" pos="3578400"/>
                <a:tab algn="l" pos="3833640"/>
                <a:tab algn="l" pos="4089240"/>
                <a:tab algn="l" pos="4344840"/>
                <a:tab algn="l" pos="4600440"/>
                <a:tab algn="l" pos="4856040"/>
                <a:tab algn="l" pos="5111640"/>
                <a:tab algn="l" pos="536724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iologisch wirksam wird nur der Anteil der in den Körper eingefallenen Strahlung, der mit dem Organismus unter Erzeugung von Ionenpaaren bzw. Energieabgabe in Wechselwirkung trit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0" t="18841" r="33986" b="35255"/>
          <a:stretch/>
        </p:blipFill>
        <p:spPr>
          <a:xfrm>
            <a:off x="1908000" y="4094280"/>
            <a:ext cx="529308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rId1"/>
          </p:cNvPr>
          <p:cNvPicPr/>
          <p:nvPr/>
        </p:nvPicPr>
        <p:blipFill>
          <a:blip r:embed="rId2">
            <a:lum contrast="6000"/>
          </a:blip>
          <a:srcRect l="38992" t="39021" r="40023" b="39994"/>
          <a:stretch/>
        </p:blipFill>
        <p:spPr>
          <a:xfrm>
            <a:off x="6372360" y="1773360"/>
            <a:ext cx="2303280" cy="2303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Strahl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elium-Kerne, Teilchenmasse 4 u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Zweifach positiv gela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ichweite in Luft: einige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bschirmung: Blatt Pa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iologische Gefahr: sehr hoch, durch Aufnahme mit Nahrung und Atemluft, radioaktiver „fallout“ nach Bombenexplosionen, Unfä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87648" b="60925"/>
          <a:stretch/>
        </p:blipFill>
        <p:spPr>
          <a:xfrm>
            <a:off x="6227640" y="1197000"/>
            <a:ext cx="2484720" cy="4464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Strahl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lektronen, Teilchenmasse  ca. 0,002 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infach negativ gela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ichweite in Luft: einige 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eschwindigkeit: 90%Lichtgeschwindigk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bschirmung: Buch 5 cm d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iologische Gefahr: „fallout“, Faktor 20 geringer als </a:t>
            </a: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Strahl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>
            <a:hlinkClick r:id="rId1"/>
          </p:cNvPr>
          <p:cNvPicPr/>
          <p:nvPr/>
        </p:nvPicPr>
        <p:blipFill>
          <a:blip r:embed="rId2">
            <a:lum contrast="12000"/>
          </a:blip>
          <a:srcRect l="11020" t="22520" r="14989" b="3040"/>
          <a:stretch/>
        </p:blipFill>
        <p:spPr>
          <a:xfrm>
            <a:off x="6227640" y="2060640"/>
            <a:ext cx="2664000" cy="2376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Strahl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ktro-Magnetische Strahlung, sehr energiere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chtgeschwindigk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efr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ichweite in Luft: mehrere k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chirmung: 20 cm Blei, 1 m Be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sche Gefahr: Fernwirkung bei Atomexplosi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ßeinhei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Aktivität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beschreibt den Zerfall radioaktiver Atomkerne  (Radionuklide);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Ionendosi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Energiedosi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Äquivalentdosi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sagen etwas über die Wirkung ionisierender Strahlung in Materie au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ktivitä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76720" y="1197000"/>
            <a:ext cx="54100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ine bestimmte Menge radioaktiver Atome besitzt die </a:t>
            </a:r>
            <a:r>
              <a:rPr b="0" lang="de-DE" sz="3200" spc="-1" strike="noStrike">
                <a:solidFill>
                  <a:srgbClr val="ff3300"/>
                </a:solidFill>
                <a:latin typeface="Arial"/>
              </a:rPr>
              <a:t>Aktivität von 1 Bequerel (Bq),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wenn pro sec genau ein Kern zerfällt.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lte Einheit: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i (Curie) = 3,7x10</a:t>
            </a:r>
            <a:r>
              <a:rPr b="0" lang="de-DE" sz="32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Bq,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1 Bq = 2,7x10</a:t>
            </a:r>
            <a:r>
              <a:rPr b="0" lang="de-DE" sz="3200" spc="-1" strike="noStrike" baseline="30000">
                <a:solidFill>
                  <a:srgbClr val="000000"/>
                </a:solidFill>
                <a:latin typeface="Arial"/>
              </a:rPr>
              <a:t>-11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0" t="18862" r="49986" b="31319"/>
          <a:stretch/>
        </p:blipFill>
        <p:spPr>
          <a:xfrm>
            <a:off x="0" y="3573360"/>
            <a:ext cx="3276720" cy="2276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rcRect l="5247" t="5691" r="3960" b="7560"/>
          <a:stretch/>
        </p:blipFill>
        <p:spPr>
          <a:xfrm>
            <a:off x="0" y="476280"/>
            <a:ext cx="327672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ssu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der Zerfall ist mit der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Emission ionisierender Strahlu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rbunden. Diese kann mit einem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Geigerzähl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messen we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15606" t="10828" r="0" b="0"/>
          <a:stretch/>
        </p:blipFill>
        <p:spPr>
          <a:xfrm>
            <a:off x="3924360" y="3103560"/>
            <a:ext cx="521964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74520"/>
            <a:ext cx="9144000" cy="67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sche Gefah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56000" y="1600200"/>
            <a:ext cx="61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Gefährlichkei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eines radioaktiven Stoffes wird neben der  Aktivität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von der Art der ausgesandten Strahlu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und seiner Lebensdauer (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Halbwertszei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bestimm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22096" t="7658" r="17100" b="43703"/>
          <a:stretch/>
        </p:blipFill>
        <p:spPr>
          <a:xfrm>
            <a:off x="250920" y="2349360"/>
            <a:ext cx="2376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0T12:41:19Z</dcterms:created>
  <dc:creator>Schermann</dc:creator>
  <dc:description/>
  <dc:language>en-US</dc:language>
  <cp:lastModifiedBy>Ihr Benutzername</cp:lastModifiedBy>
  <dcterms:modified xsi:type="dcterms:W3CDTF">2006-10-03T17:16:06Z</dcterms:modified>
  <cp:revision>7</cp:revision>
  <dc:subject/>
  <dc:title>Radioaktivität</dc:title>
</cp:coreProperties>
</file>