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image8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E0632-9D4B-404C-B388-65D1C34ED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A5DBC-EDF4-468E-8AF0-A2B9D6B6E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F492E-4752-4430-BBA3-9EAB7C1C3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8E668-0BBD-42D7-AB77-6A4CFD0FD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AC1F7-0988-476A-B39B-81175D68F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2486B-B24B-4DA8-BE9C-441D23394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DED2F-90D2-4848-9510-E0DA59B01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3C3C3-8570-407F-AD4A-C1FBAC697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67A22-48A6-42D8-A233-71FD7590E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D190E-C13A-4D66-8C26-9B070FDF5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5331B-DC43-44AD-8EEC-571FC6B02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6EF63-CD5C-4A45-BA01-0793EF5D0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9CC89-F107-4186-8D96-32EFED6B5A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aboutnuclear.org/i/the_atom/helium-anim.gif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hpwt.de/Intradio.gif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dioaktivitä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Strahlu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positiv geladene He-Kern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Strahlu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negativ geladene Elektrone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Strahlu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ohne Ladung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ergiereich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ktro-magnetische Strahlu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24000" y="2044800"/>
            <a:ext cx="4248000" cy="36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ologische Wirku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511200"/>
                <a:tab algn="l" pos="766800"/>
                <a:tab algn="l" pos="1022400"/>
                <a:tab algn="l" pos="1278000"/>
                <a:tab algn="l" pos="1533600"/>
                <a:tab algn="l" pos="1789200"/>
                <a:tab algn="l" pos="2044800"/>
                <a:tab algn="l" pos="2300400"/>
                <a:tab algn="l" pos="2556000"/>
                <a:tab algn="l" pos="2811600"/>
                <a:tab algn="l" pos="3067200"/>
                <a:tab algn="l" pos="3322800"/>
                <a:tab algn="l" pos="3578400"/>
                <a:tab algn="l" pos="3833640"/>
                <a:tab algn="l" pos="4089240"/>
                <a:tab algn="l" pos="4344840"/>
                <a:tab algn="l" pos="4600440"/>
                <a:tab algn="l" pos="4856040"/>
                <a:tab algn="l" pos="5111640"/>
                <a:tab algn="l" pos="536724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Biologisch wirksam wird nur der Anteil der in den Körper eingefallenen Strahlung, der mit dem Organismus unter Erzeugung von Ionenpaaren bzw. Energieabgabe in Wechselwirkung trit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rcRect l="0" t="18841" r="33986" b="35255"/>
          <a:stretch/>
        </p:blipFill>
        <p:spPr>
          <a:xfrm>
            <a:off x="1908000" y="4094280"/>
            <a:ext cx="5293080" cy="276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>
            <a:hlinkClick r:id="rId1"/>
          </p:cNvPr>
          <p:cNvPicPr/>
          <p:nvPr/>
        </p:nvPicPr>
        <p:blipFill>
          <a:blip r:embed="rId2">
            <a:lum contrast="6000"/>
          </a:blip>
          <a:srcRect l="38992" t="39021" r="40023" b="39994"/>
          <a:stretch/>
        </p:blipFill>
        <p:spPr>
          <a:xfrm>
            <a:off x="6372360" y="1773360"/>
            <a:ext cx="2303280" cy="23032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- Strahlu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Helium-Kerne, Teilchenmasse 4 u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Zweifach positiv geladen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Reichweite in Luft: einige c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Abschirmung: Blatt Pap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Biologische Gefahr: sehr hoch, durch Aufnahme mit Nahrung und Atemluft, radioaktiver „fallout“ nach Bombenexplosionen, Unfäl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rcRect l="0" t="0" r="87648" b="60925"/>
          <a:stretch/>
        </p:blipFill>
        <p:spPr>
          <a:xfrm>
            <a:off x="6227640" y="1197000"/>
            <a:ext cx="2484720" cy="4464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- Strahlu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Elektronen, Teilchenmasse  ca. 0,002 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Einfach negativ gela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Reichweite in Luft: einige Me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Geschwindigkeit: 90%Lichtgeschwindigke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Abschirmung: Buch 5 cm di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Biologische Gefahr: „fallout“, Faktor 20 geringer als </a:t>
            </a:r>
            <a:r>
              <a:rPr b="0" lang="de-DE" sz="3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-Strahlu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>
            <a:hlinkClick r:id="rId1"/>
          </p:cNvPr>
          <p:cNvPicPr/>
          <p:nvPr/>
        </p:nvPicPr>
        <p:blipFill>
          <a:blip r:embed="rId2">
            <a:lum contrast="12000"/>
          </a:blip>
          <a:srcRect l="11020" t="22520" r="14989" b="3040"/>
          <a:stretch/>
        </p:blipFill>
        <p:spPr>
          <a:xfrm>
            <a:off x="6227640" y="2060640"/>
            <a:ext cx="2664000" cy="23763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- Strahlu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ktro-Magnetische Strahlung, sehr energiere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chtgeschwindigke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ssefre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ichweite in Luft: mehrere k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schirmung: 20 cm Blei, 1 m Bet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ologische Gefahr: Fernwirkung bei Atomexplosion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ßeinheit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Die </a:t>
            </a:r>
            <a:r>
              <a:rPr b="1" lang="de-DE" sz="3200" spc="-1" strike="noStrike">
                <a:solidFill>
                  <a:srgbClr val="ff3300"/>
                </a:solidFill>
                <a:latin typeface="Arial"/>
              </a:rPr>
              <a:t>Aktivität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beschreibt den Zerfall radioaktiver Atomkerne  (Radionuklide); </a:t>
            </a:r>
            <a:br>
              <a:rPr sz="3200"/>
            </a:b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3300"/>
                </a:solidFill>
                <a:latin typeface="Arial"/>
              </a:rPr>
              <a:t>Ionendosis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de-DE" sz="3200" spc="-1" strike="noStrike">
                <a:solidFill>
                  <a:srgbClr val="ff3300"/>
                </a:solidFill>
                <a:latin typeface="Arial"/>
              </a:rPr>
              <a:t>Energiedosis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und </a:t>
            </a:r>
            <a:r>
              <a:rPr b="1" lang="de-DE" sz="3200" spc="-1" strike="noStrike">
                <a:solidFill>
                  <a:srgbClr val="ff3300"/>
                </a:solidFill>
                <a:latin typeface="Arial"/>
              </a:rPr>
              <a:t>Äquivalentdosis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sagen etwas über die Wirkung ionisierender Strahlung in Materie au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ktivitä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276720" y="1197000"/>
            <a:ext cx="541008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Eine bestimmte Menge radioaktiver Atome besitzt die </a:t>
            </a:r>
            <a:r>
              <a:rPr b="0" lang="de-DE" sz="3200" spc="-1" strike="noStrike">
                <a:solidFill>
                  <a:srgbClr val="ff3300"/>
                </a:solidFill>
                <a:latin typeface="Arial"/>
              </a:rPr>
              <a:t>Aktivität von 1 Bequerel (Bq),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wenn pro sec genau ein Kern zerfällt.</a:t>
            </a:r>
            <a:br>
              <a:rPr sz="3200"/>
            </a:b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Alte Einheit: </a:t>
            </a:r>
            <a:br>
              <a:rPr sz="3200"/>
            </a:b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Ci (Curie) = 3,7x10</a:t>
            </a:r>
            <a:r>
              <a:rPr b="0" lang="de-DE" sz="3200" spc="-1" strike="noStrike" baseline="30000">
                <a:solidFill>
                  <a:srgbClr val="000000"/>
                </a:solidFill>
                <a:latin typeface="Arial"/>
              </a:rPr>
              <a:t>10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Bq, </a:t>
            </a:r>
            <a:br>
              <a:rPr sz="3200"/>
            </a:b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1 Bq = 2,7x10</a:t>
            </a:r>
            <a:r>
              <a:rPr b="0" lang="de-DE" sz="3200" spc="-1" strike="noStrike" baseline="30000">
                <a:solidFill>
                  <a:srgbClr val="000000"/>
                </a:solidFill>
                <a:latin typeface="Arial"/>
              </a:rPr>
              <a:t>-11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C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rcRect l="0" t="18862" r="49986" b="31319"/>
          <a:stretch/>
        </p:blipFill>
        <p:spPr>
          <a:xfrm>
            <a:off x="0" y="3573360"/>
            <a:ext cx="3276720" cy="2276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rcRect l="5247" t="5691" r="3960" b="7560"/>
          <a:stretch/>
        </p:blipFill>
        <p:spPr>
          <a:xfrm>
            <a:off x="0" y="476280"/>
            <a:ext cx="3276720" cy="30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ssu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der Zerfall ist mit der 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Emission ionisierender Strahlu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verbunden. Diese kann mit einem 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Geigerzähl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gemessen werd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rcRect l="15606" t="10828" r="0" b="0"/>
          <a:stretch/>
        </p:blipFill>
        <p:spPr>
          <a:xfrm>
            <a:off x="3924360" y="3103560"/>
            <a:ext cx="5219640" cy="375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74520"/>
            <a:ext cx="9144000" cy="670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ologische Gefah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556000" y="1600200"/>
            <a:ext cx="613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ie 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Gefährlichkeit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eines radioaktiven Stoffes wird neben der  Aktivität </a:t>
            </a: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von der Art der ausgesandten Strahlung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und seiner Lebensdauer (</a:t>
            </a: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Halbwertszeit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) bestimm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rcRect l="22096" t="7658" r="17100" b="43703"/>
          <a:stretch/>
        </p:blipFill>
        <p:spPr>
          <a:xfrm>
            <a:off x="250920" y="2349360"/>
            <a:ext cx="237636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0T12:41:19Z</dcterms:created>
  <dc:creator>Schermann</dc:creator>
  <dc:description/>
  <dc:language>en-US</dc:language>
  <cp:lastModifiedBy>Ihr Benutzername</cp:lastModifiedBy>
  <dcterms:modified xsi:type="dcterms:W3CDTF">2006-10-03T17:16:06Z</dcterms:modified>
  <cp:revision>7</cp:revision>
  <dc:subject/>
  <dc:title>Radioaktivität</dc:title>
</cp:coreProperties>
</file>