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A4E7-419D-40D4-B597-34BC0CDD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25CA-0ED2-4E79-B4AC-A287B09C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976D-9C13-465B-87F8-9F250CF7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11C4-DF5E-473A-A767-62DEFCBA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C1A9-45ED-4508-BDB1-E4B0F0FC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F429-699A-413F-9B6F-2D525262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39E6-2680-40EC-85AD-51D478BC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F157-712A-4E5A-9676-4067FE0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CAC6-F246-41CA-B5F5-2670225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8970-F29A-48BF-8BEC-CA8D6C81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C9BC-49F9-4534-B1A5-CEBCA4EC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963F-F6B0-40FC-A12C-E6E1BC73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3944-7980-41EE-A7AB-05ADCE67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2067-0625-4D95-8115-9313026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A832-4B9D-4901-BD8D-4EEC36F5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81A9-D0A9-4741-AA0E-1D690E3C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E813-5454-4FA5-BB3D-49140EFE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EA3F-29A7-480E-B2A7-D5F4F751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53D4-0160-44CB-8AF6-ECC06578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1458-DFD5-42CE-BC7A-1BDCB7CC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2022-76F7-4A32-AC24-2603D128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B27A-B1F6-452F-A9EE-D2603F87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4410-0243-463B-9408-15C55EDC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65BE-9BF8-4049-95A3-548199C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87B7-CC69-48BE-A115-B061226F2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AC6E-808B-4924-B81F-582C60696E2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5750-F3AE-4D30-B2EA-4604AA2DAAB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E16E-44B5-4661-828E-66639B6A97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 u="sng">
                <a:solidFill>
                  <a:srgbClr val="ff0000"/>
                </a:solidFill>
                <a:uFillTx/>
                <a:latin typeface="Arial"/>
              </a:rPr>
              <a:t>Unterricht in Live Online- Räumen</a:t>
            </a:r>
            <a:r>
              <a:rPr b="0" i="1" lang="de-DE" sz="5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5400"/>
            </a:br>
            <a:r>
              <a:rPr b="0" i="1" lang="de-DE" sz="5400" spc="-1" strike="noStrike" u="sng">
                <a:solidFill>
                  <a:srgbClr val="ff0000"/>
                </a:solidFill>
                <a:uFillTx/>
                <a:latin typeface="Arial"/>
              </a:rPr>
              <a:t>Biologie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476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a, der KMSI Sechshaus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de-AT" sz="2800" spc="-1" strike="noStrike" u="sng">
                <a:solidFill>
                  <a:srgbClr val="ffffff"/>
                </a:solidFill>
                <a:uFillTx/>
                <a:latin typeface="Arial"/>
              </a:rPr>
              <a:t>Michaela Hofmeister, Dr. Rist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76F4-1928-45F9-BA33-FC463F79244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18CD555-E57C-45B8-881A-89B94F8253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 u="sng">
                <a:solidFill>
                  <a:srgbClr val="ff6600"/>
                </a:solidFill>
                <a:uFillTx/>
                <a:latin typeface="Arial"/>
              </a:rPr>
              <a:t>AIDS – eine Seuche unserer Zeit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hüler, Lehrer und Mediatoren des Aidshilfe Hauses Wi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5496-4F5E-4D58-A213-6DCE48F1ED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43A46C7-2623-4A39-A35B-0B393C0517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ff6600"/>
                </a:solidFill>
                <a:uFillTx/>
                <a:latin typeface="Arial"/>
              </a:rPr>
              <a:t>Vorarbeiten zur LiveOnline Stund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6600"/>
                </a:solidFill>
                <a:latin typeface="Arial"/>
              </a:rPr>
              <a:t>Erarbeitung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der wichtigsten Begriffe mit Hilfe des Inter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Die Schüler</a:t>
            </a:r>
            <a:r>
              <a:rPr b="0" lang="de-AT" sz="3200" spc="-1" strike="noStrike">
                <a:solidFill>
                  <a:srgbClr val="ff6600"/>
                </a:solidFill>
                <a:latin typeface="Arial"/>
              </a:rPr>
              <a:t> informieren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sich über themaspezifische Begriffe wi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HIV, AIDS- was bedeuten diese Abkürzungen eigentli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Welche Art von Krankheit ist AI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93FE-E3AB-4F55-9A96-998A5B10B1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731A6D-E3E2-4D50-975F-C1A343BEBC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Kurzreferate der Schül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 Schüler suchen sich Subthemen zum großen Thema AIDS aus und referieren darü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m Beispi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gehe ich mit einem HIV – positiven Menschen 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schütze ich mich vor der Ansteck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kann man sich ansteck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F453-3F5B-4918-AD53-51CEC5D43F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C987BF8-6BC8-41B0-AA74-0CC62A80E4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Rundgang durch das AIDSHILFE HAUS in Wie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11280" y="429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s Aidshilfe Haus in Wi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1619280" cy="2158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932360" y="400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n wirksames Anti -Aidsmit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2627280" y="4797360"/>
            <a:ext cx="2414520" cy="18115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651640" y="530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endprä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2941-D9D4-4C62-A269-F27805F5A40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FDCC668-F2D8-4E46-96C4-BA77CF540A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Arial"/>
              </a:rPr>
              <a:t>Workshop des Aids Hilfe Hauses in Wien in der Schul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Schüler wurden geschlechterspezifisch getren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wei Mediatoren kamen in die Gruppen und arbeiten mit den Schülern zum Thema (ohne Lehrer!!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ser Workshop dauerte 2 Stu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80000" y="4869000"/>
            <a:ext cx="1349280" cy="17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ACE9-59E3-4108-BF88-96B4035978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442D7AB-8C3F-4B73-9CEC-B8A0330FC8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6600"/>
                </a:solidFill>
                <a:latin typeface="Arial"/>
              </a:rPr>
              <a:t>Trotzdem hatten die Schüler noch immer Fragen an Frau Dr. Rist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68FD-45F1-4DE7-9D5D-7B54A308F6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35E07B-4706-4592-842D-B329CB6B1F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 u="sng">
                <a:solidFill>
                  <a:srgbClr val="ff6600"/>
                </a:solidFill>
                <a:uFillTx/>
                <a:latin typeface="Arial"/>
              </a:rPr>
              <a:t>Fragen der Schüler der 4a an die Schulärztin Dr. Ristl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Gibt es schon HIV Tests, wo man nicht so lange auf das Ergebnis warten mu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Wie sicher sind diese 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Kann man von dieser Krankheit sicher nicht mehr gesund wer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Wann kommt es zum Ausbruch der Krankhe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Kann ich auch ohne Test erkennen, dass ich HIV – positiv b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Kann ich trotzdem schwanger wer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Was ist dann mit meinem Ki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Wann wird es eine Impfung geb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Stirbt man schnell dar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DC5A-51FE-4FF6-A243-6DFDD3C6F4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ACDDAC3-8C73-4B3F-B47D-DF3786E271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3:26:54Z</dcterms:created>
  <dc:creator>KUNIGUNDE</dc:creator>
  <dc:description/>
  <dc:language>en-US</dc:language>
  <cp:lastModifiedBy>l91503201</cp:lastModifiedBy>
  <dcterms:modified xsi:type="dcterms:W3CDTF">2010-06-18T10:05:24Z</dcterms:modified>
  <cp:revision>14</cp:revision>
  <dc:subject/>
  <dc:title>Unterricht in Live Online- Räumen   </dc:title>
</cp:coreProperties>
</file>