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B83-41D6-468A-B2F7-57BF02BF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F26-8AFA-40B6-A26F-358352B6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F36-6654-4D35-9C92-1208EE08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1B2-9AA8-4B10-A954-C5264A41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37B-8A99-4C36-B891-0D6B4D1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5D9-DDC4-4207-96D5-FE484F5F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46B-88AD-4C44-A97B-C22A33F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4F1-5C6C-4790-BC1C-B91FF05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58D-4F5B-493C-A38B-7646D952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21C-3858-4146-B496-A7935DE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A3D-80CE-458F-A416-43348A3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225-8C49-4B82-8B19-983F0A3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91D-ECEB-4C11-BDEC-ADA4A4DC10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p-new-zealand" descr="Landkarte von Neuseeland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arte_ozeanien" descr=""/>
          <p:cNvPicPr/>
          <p:nvPr/>
        </p:nvPicPr>
        <p:blipFill>
          <a:blip r:embed="rId1"/>
          <a:stretch/>
        </p:blipFill>
        <p:spPr>
          <a:xfrm>
            <a:off x="92160" y="314280"/>
            <a:ext cx="89614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Zealand is in the South Pacific Ocean, a long way from anywhere.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closest country and that is two thousand kilometres away. New Zealan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olated and this make it special. This isolation changes everything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ealand´s history, the weather, the way its people are and the trees, flowe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nimals that you can s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ew Zealand is made up of two large islands – the North Island and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Island and a much smaller island, Steward Island. It is about the same size a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nited Kingdom, but it has only four million people.  The UK has sixty-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llion people. There are almost a million young people under fifteen in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ea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in language of NZ is English. NZ was once part of the British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nd still has the British flag as part of its own fl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weather in NZ is never usually really hot or cold, but it is hotte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rth Island where most people live (about 3 million). It often rains and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an change quickly. Sometimes you can get many different kinds of weath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ne day, especially on the South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ew Zealand has a lot of water, clean air and good earth and there are 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arms. It is famous for its butter, cheese and meat, which it sells to Austral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USA, Japan and the rest of Asia. There are forty million sheep in the country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at´s ten for every pers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or a long time, no people lived in NZ. The first people to make NZ their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ere the Maori. They arriver from Polynesia in boats made of wood,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aka“. We don´t know when they arrived, but some people think it wa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950-1130 AD. The Maori called NZ “Aotearoa“ or Land of the Long Wh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loud. Around the year 1700 europeans first came zo N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oday thousands of people go to NZ on holiday. They go to see the beauti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ountryside and to enjoy sports. While they are there, tourists can also lear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ori and hear many Maori stories about NZ. The biggest business in NZ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w tour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How mountains and volcanoes b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was a boy who could do magic. One day he wanted to go fishing with his 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brothers. He hid in the bottom of his brother´s “waka“. Once out at sea, Maui´s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ound him. They wanted to take him back to the village because he was too young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quickly used his magic. He made his village look very far away – too far to go h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is brothers had to let him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hen Maui and his brothers started fishing, Maui decided to use his magic again. S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e felt something very strong pulling on his fishing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elp me!“ Maui called to his brothers and they all came to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veryone pulled very hard until they pulled up the North Island of New Zea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didn´t want the gods to be angry with them for doing this and he moved away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is brothers to talk to the gods quietly. But while he was gone, his brothers began to ar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ver the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It´s mine!“ one sho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, it´s mine!“ the other sa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y became so angry they began to hit the island. Hit, hit, hit – over and over ag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s they hit, they made the mountains and volcanoes of the North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ori believe that the North Island looks like a fish, the South Island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´s waka and Stewart Island looks like the waka´s anch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atch these facts  with the nu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Kilometres between New Zealand and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in the United 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under fifteen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who live on the North Is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heep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1          almost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2         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         3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4         4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5        40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6        6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2 Answer the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1 What is the main language in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2 What is the climate like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 What food is New Zealand famous f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4 What do the Maori people call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5 When did people from Europe first come to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6 What is the biggest business in New Zealand toda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24:20Z</dcterms:created>
  <dc:creator>ucitel</dc:creator>
  <dc:description/>
  <dc:language>en-US</dc:language>
  <cp:lastModifiedBy>l91503201</cp:lastModifiedBy>
  <dcterms:modified xsi:type="dcterms:W3CDTF">2009-11-17T09:17:27Z</dcterms:modified>
  <cp:revision>5</cp:revision>
  <dc:subject/>
  <dc:title>New Zealand</dc:title>
</cp:coreProperties>
</file>