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957-B32B-47E9-BC72-69684EE9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EE5-5797-44C7-924A-6071A6E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8BC-03E7-4010-8851-22872AE2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BD3-3D20-4C7A-A3DB-85111282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195B-697E-4526-9D2A-46D11F1D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0AD-E0EC-4671-9479-9A172B75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338-2841-4CB1-9C1F-C0D5FF80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BE56-2BD5-4C0B-AF3C-F3746EA7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62A-6E43-4436-AA81-F1854CE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2375-4907-48B2-8929-78E07D2B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D0B7-20D6-45EB-8BA3-3831370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E21-5ACA-44DA-9FBF-9B41EDDB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C81-4321-414A-BFC5-C1B0A42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BBF-9F6E-40DD-AE5E-E5E1FB0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3357-37D9-4834-B1BF-0167FF1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019-490E-4A5A-A534-38285113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98E-4359-49ED-AED1-925200E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756-981A-4B20-AADE-91FED910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FD8-C947-48C0-81CC-458E3909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634-26FF-4D7D-8403-086A69A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8FE-C120-4B48-B5EC-A4AF098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4A5-5AB3-4BC6-A9E1-B3D257E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28-7F9C-475D-8990-4D234A6C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1AD-D555-4463-B4D7-FEBBAC3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06D-9D82-4780-AEB2-C8D2E6BCE6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236-BFCD-4541-AEF8-EDF415864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5B28-4623-4684-AD88-D01FBD35480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D765-3E03-4CF3-88AB-08FB6C65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i.ac.at/index.php?eID=tx_cms_showpic&amp;file=uploads%2Fpics%2Faiplan.jpg&amp;width=800m&amp;height=600m&amp;bodyTag=%3Cbody%20style%3D%22margin%3A0%3B%20background%3A%23fff%3B%22%3E&amp;wrap=%3Ca%20href%3D%22javascript%3Aclose%28%29%3B%22%3E%20%7C%20%3C%2Fa%3E&amp;md5=29e8899e975ed9a266c7765f2081a65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-simon.de/praesent/Atomgroesse.zip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64640"/>
            <a:ext cx="77724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Unterricht in Live Online- Räumen</a:t>
            </a:r>
            <a:br>
              <a:rPr sz="5400"/>
            </a:b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Physik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a, der KMSI Sechshaus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+ Dr. Sterba (Atominstitut Wi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6A3-A936-437E-8513-1DED0C94253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89748B-C853-4D69-A637-C34B7D14C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as Uranatom besteht au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Protonen,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Neutronen un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Elektronen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356256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F79-1B79-4D06-B49D-31650176257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F7EA3-6CA5-43F7-B025-E1FBBE13D222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lle Wasserstoffatome haben 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Protonen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54348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4A4-05BC-4AF0-A10C-4348E9FCDA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9D89D-8D29-4084-89DD-3FA5B6DE423B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lle Sauerstoffatome haben 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Protonen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727000" cy="25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0E2-5CFA-4505-959A-21C9958659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B98EB-E8EB-4F30-B44C-5728060D1899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Uran ist das 92. Element im Periodensystem und daher haben alle Uranatome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.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Protone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2994120" cy="32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518-96CF-4B78-9FB4-CC5B192AA42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4B0C4-2049-4E8A-813D-27AFC4CF865C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Hinsichtlich der Anzahl der Neutronen kann es aber Unterschiede geben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0E9-D80E-4E50-B2C6-A9B7BA67968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B2AC1-A47C-4B6B-8D10-29B3716E1804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„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Gewöhnlicher“ Wasserstoff hat kein Neutron, es gibt aber Wasserstoffatome mit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Neutron und sogar mit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Neutronen   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680000" cy="28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029-B25D-4403-A41D-B4FFD1305E9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F5B05-A885-46DB-8034-B87819C7F9D4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tome mit gleich vielen Protonen, aber unterschiedlich vielen Neutronen nennt man </a:t>
            </a: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I . . . . . .!!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210120" cy="17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C74-3363-4698-8290-B9DD7187222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A73CC-3A89-45D5-A8C1-2326CB1F7AFD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0" y="1557360"/>
            <a:ext cx="36212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iese Uran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……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sind für die Kernspaltung im Atomkraftwerk wichtig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__________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00680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186-7742-4812-95E5-66EBE233CFF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2CE5B-A976-4721-849D-724DE45FB090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ie erste Kernspaltung gelang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933800" cy="252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756160" cy="44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0B0-03EA-49AE-B3B3-A2E93219780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71058-2431-4BAC-9FFA-79729A37D230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ei einer Kernspaltung entstehe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_______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Radioaktivität"/>
          <p:cNvPicPr/>
          <p:nvPr/>
        </p:nvPicPr>
        <p:blipFill>
          <a:blip r:embed="rId1"/>
          <a:stretch/>
        </p:blipFill>
        <p:spPr>
          <a:xfrm>
            <a:off x="755640" y="2602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300480" cy="2023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32101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4B4-D24A-4D86-97B7-9ED585F4942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869C6-2202-42B8-A28B-DBEB10658D58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379840" cy="3333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Onlinestunde 19.3.2010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ma: Grundbegriffe der Atomphys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596-76F6-4CE9-936E-A3AFD9CCB9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733D04-1579-4564-B9B0-8DFDCB41F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s gibt 3 Arten radioaktiver Strahlung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604836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90A-274C-4A13-8214-C1F26D5A90A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9FC18-E96B-4FFF-94C9-4A74F8290465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Wir schützen uns vor Radioaktivitä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4076640"/>
          <a:ext cx="8229600" cy="2405160"/>
        </p:xfrm>
        <a:graphic>
          <a:graphicData uri="http://schemas.openxmlformats.org/drawingml/2006/table">
            <a:tbl>
              <a:tblPr/>
              <a:tblGrid>
                <a:gridCol w="3382920"/>
                <a:gridCol w="4846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hut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ph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m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17264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8AB-0621-4D53-8B2D-535EF84AA8D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8D369-7874-4046-A9C9-869A607D186C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Im Kernkraftwerk wird mit der bei der Kernspaltung entstehende Wärm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Erzeugt, der ein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Betreibt, diese den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G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Und der erzeugt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ann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. . . .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27640" cy="42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052-E747-4A20-9EC6-E94D21A2924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09939-51CF-43F8-B3A3-6D76FA110CDD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e Kettenreak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1DE-DA90-4C9A-AAC7-0005FE6CFCA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D1DC8-FA73-48BA-BAFD-BAB1F0E82224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72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as ist eine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Kettenreaktion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!!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438360" cy="32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C9C-276F-4198-BC6A-F2D8AE4E083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C10D0-969A-4443-9C65-24010B47B8FB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ine Kettenreaktion führt zu einer Explosio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40072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14A-A1E7-4330-9480-C31F224F68F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CFF2D-F644-4D46-B645-488D2571AF6F}" type="datetime1">
              <a:rPr lang="en-US"/>
              <a:t>07/31/26</a:t>
            </a:fld>
          </a:p>
        </p:txBody>
      </p:sp>
    </p:spTree>
  </p:cSld>
  <p:transition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ragen der Schüler an den Expert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he Staaten der Welt können Uran aufberei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nn es einen neuerlichen Atombombenabwurf geb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lgen eines Atomkrie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00F-4B3E-46F9-A3FB-F09A45EE6A1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C18D6-924F-456F-9CDB-2D6FBAD4F5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aipl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692280"/>
            <a:ext cx="4152600" cy="3252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6400800" cy="647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t: Atominstitut - W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3657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 befindet sich Österreichs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inziger aktiver Kernreak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ch werde mich mit einem Experten in seinem Kontrollzentrum bzw. auf dem Reaktor befind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3B62-FA5F-4CC1-BE8E-8D2E3968469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44B23A-6E5C-4E86-995F-0E9FABE9F2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Inh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ge des Atominstit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Österreichs einziger aktiver Reak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ntrollzen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arbeitung der wichtigsten Grundbegriffe der Atomphysik mit den Schül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23D-6D0D-4F94-B04B-DE41633D3C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81ADE-F584-4688-AB82-476D40E9A8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6CE-CB90-4832-8C45-FB0EDC79143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BEAB-9F06-4797-ADFD-C48D23E524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Ein Streifzug durch die Welt der At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fbau der At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terschied: Neutron – Proton – Elektron; Iso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verschiedene Strahlungsar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utz vor Radioaktivitä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rnspal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s ist eine Ketten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9BB-B1D5-4B76-BEA5-8B4206A1DC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3632-A53E-4ED1-A327-B7A62A9F34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 kleinsten Baustein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er Stoff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Streifzug durch die Welt der At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941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11FF-174F-4B13-A006-6FEED30A3F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3EE930-D697-49D2-86D9-70990212AD1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tome bestehen aus einem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und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iner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. . . . . . .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096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23E-2618-4D29-8ACA-9278D185D8B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C4385-6755-4CE5-B576-93FF975B3814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s gibt 3 verschiedene Teilchen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_____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253-FDFF-4659-8714-EA4EE0BCDC9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06C2-E89B-40F0-8135-C38E7880DBE3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18:05Z</dcterms:created>
  <dc:creator>KUNIGUNDE</dc:creator>
  <dc:description/>
  <dc:language>en-US</dc:language>
  <cp:lastModifiedBy>KUNIGUNDE</cp:lastModifiedBy>
  <dcterms:modified xsi:type="dcterms:W3CDTF">2010-06-08T13:58:03Z</dcterms:modified>
  <cp:revision>6</cp:revision>
  <dc:subject/>
  <dc:title>Unterricht in Live Online- Räumen</dc:title>
</cp:coreProperties>
</file>