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B1C-89D6-4236-B371-3F5F45CA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BED-6A18-4375-B0E5-BE745B68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9D4-CEBC-4B3D-9EEA-4F78B987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519-CA57-4335-B8EF-A43B9080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45B-B1B0-4D24-9069-B5D739B0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D41-91D9-4314-8614-264FA6A5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348-A0D7-46A6-90C9-5C81DD28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728-47C5-4EEC-B978-D31AFFDD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0C9-47B6-4E24-B429-B70068DC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E72-D201-4B14-A6CB-85FD9E3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C4C-3A85-4479-9AB3-430C5CF9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9F9-02FE-40F2-9402-2E1EAF0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A3E8-BC8E-4285-AF5A-AE89C5419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mathe-online.at/nml/materialien/innsbruck/folgen/applet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athe-online.at/galerie/grenz/grenz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initesimalrechn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ins Unendl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nomfol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7117" t="19713" r="51755" b="14869"/>
          <a:stretch/>
        </p:blipFill>
        <p:spPr>
          <a:xfrm>
            <a:off x="0" y="1278000"/>
            <a:ext cx="6227640" cy="5448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84720" y="2781360"/>
            <a:ext cx="15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211640" y="3429000"/>
                <a:ext cx="405612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genschaften von unendlichen Fol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8804" t="49948" r="64720" b="15047"/>
          <a:stretch/>
        </p:blipFill>
        <p:spPr>
          <a:xfrm>
            <a:off x="1835280" y="3117960"/>
            <a:ext cx="2860560" cy="3740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oni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reng) monot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igend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e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7926" t="43102" r="61069" b="14564"/>
          <a:stretch/>
        </p:blipFill>
        <p:spPr>
          <a:xfrm>
            <a:off x="6119640" y="1773360"/>
            <a:ext cx="3024360" cy="36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rcRect l="7926" t="44101" r="71405" b="15539"/>
          <a:stretch/>
        </p:blipFill>
        <p:spPr>
          <a:xfrm>
            <a:off x="3995640" y="1628640"/>
            <a:ext cx="201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tonie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nzwe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43280" y="1628640"/>
                <a:ext cx="6300720" cy="25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stre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not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llend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stre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not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eigend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monot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llend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monot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eige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16360" y="4365720"/>
                <a:ext cx="5292720" cy="22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ena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nn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ü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e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d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tze zur Berechnung des Li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427640" y="907920"/>
                <a:ext cx="4000320" cy="537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ür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ilt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5280" y="1989000"/>
                <a:ext cx="3465360" cy="230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ür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ilt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z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r Berechnung 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nzwer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427640" cy="299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3451320"/>
            <a:ext cx="5508720" cy="340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0360" y="479736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s= Grenze, Grenz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wer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kale Min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kale Max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8278" t="0" r="21534" b="0"/>
          <a:stretch/>
        </p:blipFill>
        <p:spPr>
          <a:xfrm>
            <a:off x="3851280" y="1341360"/>
            <a:ext cx="5292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ür die Kostenrechn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63272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ür Extremwertaufga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812" t="0" r="24906" b="14587"/>
          <a:stretch/>
        </p:blipFill>
        <p:spPr>
          <a:xfrm>
            <a:off x="0" y="1125360"/>
            <a:ext cx="4608360" cy="408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515772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muss man unter den gegebenen Voraussetzungen den Eisenbahnanschluss verleg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m die Kosten zu minim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1268280"/>
            <a:ext cx="410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 Eisenbahnstrecke im Sumpfgebiet kosten € 150000,-, auf Land € 70000,-. Im Naturschutzgebiet darf nicht gebau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8003" t="19713" r="51759" b="15047"/>
          <a:stretch/>
        </p:blipFill>
        <p:spPr>
          <a:xfrm>
            <a:off x="611280" y="1341360"/>
            <a:ext cx="5219640" cy="465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nzwe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34920" y="16002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ten be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endlichen Fol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endliche Folg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nd Abbildungen, die einem Element aus N einen Funktionswert zuord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Grenz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t de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inzig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äufungspunkt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iner unendlichen Fol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 Häufungspunkt enthält in seine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Umgebung unendlich viele Folgenglie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e Folge mit Grenzwert heiß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konverg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ohne Grenzwer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ver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llfolge mit Grenzwert Nu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7117" t="19713" r="51755" b="15047"/>
          <a:stretch/>
        </p:blipFill>
        <p:spPr>
          <a:xfrm>
            <a:off x="755640" y="1266840"/>
            <a:ext cx="6408720" cy="5591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64000" y="3500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400536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508720" y="3284640"/>
                <a:ext cx="259704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ierende Nullfol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7117" t="19713" r="51755" b="15234"/>
          <a:stretch/>
        </p:blipFill>
        <p:spPr>
          <a:xfrm>
            <a:off x="0" y="1515960"/>
            <a:ext cx="5508720" cy="4792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372360" y="263700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788000" y="4005360"/>
                <a:ext cx="36241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1:18:08Z</dcterms:created>
  <dc:creator>Schermann</dc:creator>
  <dc:description/>
  <dc:language>en-US</dc:language>
  <cp:lastModifiedBy>Schermann</cp:lastModifiedBy>
  <dcterms:modified xsi:type="dcterms:W3CDTF">2005-10-28T05:50:09Z</dcterms:modified>
  <cp:revision>6</cp:revision>
  <dc:subject/>
  <dc:title>Infinitesimalrechnung</dc:title>
</cp:coreProperties>
</file>