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54C-6A91-44F5-9944-79162EC7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97B-A8E2-4D83-AA2E-7B8CCC15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783-75C7-46E4-87D3-09511B12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A7F-FCA3-4F6A-A809-EFE51D92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A5A-79EB-4AAE-A806-5E476203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288-2AD0-47C2-AFC9-B63195B0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BF2-1991-42CD-BBC7-CF46F153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2BD-73CF-4032-815A-A280AA34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179-606D-49AC-A624-EB6E4E40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66F-6E8D-4E99-AEDC-BD09A14D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A01-B7D8-4D7A-8AB9-D5AF2E0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5F5-6B35-4587-B8BD-CA73BB8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5FAF-E0B8-4980-9128-C3D4C851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outnuclear.org/i/the_atom/helium-anim.gi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pwt.de/Intradio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itiv geladene He-Ker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gativ geladene Elektron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hne Ladu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ereic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ktro-magnetische 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044800"/>
            <a:ext cx="424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Wirk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 wirksam wird nur der Anteil der in den Körper eingefallenen Strahlung, der mit dem Organismus unter Erzeugung von Ionenpaaren bzw. Energieabgabe in Wechselwirkung tri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8841" r="33986" b="35255"/>
          <a:stretch/>
        </p:blipFill>
        <p:spPr>
          <a:xfrm>
            <a:off x="1908000" y="4094280"/>
            <a:ext cx="5293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>
            <a:lum contrast="6000"/>
          </a:blip>
          <a:srcRect l="38992" t="39021" r="40023" b="39994"/>
          <a:stretch/>
        </p:blipFill>
        <p:spPr>
          <a:xfrm>
            <a:off x="6372360" y="177336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lium-Kerne, Teilchenmasse 4 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weifach positiv gela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latt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sehr hoch, durch Aufnahme mit Nahrung und Atemluft, radioaktiver „fallout“ nach Bombenexplosionen, Un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7648" b="60925"/>
          <a:stretch/>
        </p:blipFill>
        <p:spPr>
          <a:xfrm>
            <a:off x="6227640" y="1197000"/>
            <a:ext cx="2484720" cy="446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ktronen, Teilchenmasse  ca. 0,002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ach negativ ge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windigkeit: 90%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uch 5 cm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„fallout“, Faktor 20 geringer als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Strah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>
            <a:lum contrast="12000"/>
          </a:blip>
          <a:srcRect l="11020" t="22520" r="14989" b="3040"/>
          <a:stretch/>
        </p:blipFill>
        <p:spPr>
          <a:xfrm>
            <a:off x="622764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-Magnetische Strahlung, sehr energie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ef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weite in Luft: mehrere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chirmung: 20 cm Blei, 1 m B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che Gefahr: Fernwirkung bei Atomexplo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ktivitä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eschreibt den Zerfall radioaktiver Atomkerne  (Radionuklide);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Ionen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Energie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Äquivalent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agen etwas über die Wirkung ionisierender Strahlung in Materie a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bestimmte Menge radioaktiver Atome besitzt die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Aktivität von 1 Bequerel (Bq)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enn pro sec genau ein Kern zerfäll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te Einheit: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 (Curie) = 3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q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Bq = 2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8862" r="49986" b="31319"/>
          <a:stretch/>
        </p:blipFill>
        <p:spPr>
          <a:xfrm>
            <a:off x="0" y="3573360"/>
            <a:ext cx="327672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247" t="5691" r="3960" b="7560"/>
          <a:stretch/>
        </p:blipFill>
        <p:spPr>
          <a:xfrm>
            <a:off x="0" y="476280"/>
            <a:ext cx="3276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u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er Zerfall ist mit d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mission ionisierender Strahl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unden. Diese kann mit einem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igerzäh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mess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5606" t="10828" r="0" b="0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Gefa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fährlichk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ines radioaktiven Stoffes wird neben der  Aktivität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on der Art der ausgesandten Strahlu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nd seiner Lebensdauer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lbwertsz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bestimm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2096" t="7658" r="17100" b="43703"/>
          <a:stretch/>
        </p:blipFill>
        <p:spPr>
          <a:xfrm>
            <a:off x="250920" y="2349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2:41:19Z</dcterms:created>
  <dc:creator>Schermann</dc:creator>
  <dc:description/>
  <dc:language>en-US</dc:language>
  <cp:lastModifiedBy>Ihr Benutzername</cp:lastModifiedBy>
  <dcterms:modified xsi:type="dcterms:W3CDTF">2006-10-03T17:16:06Z</dcterms:modified>
  <cp:revision>7</cp:revision>
  <dc:subject/>
  <dc:title>Radioaktivität</dc:title>
</cp:coreProperties>
</file>