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B55-5BBE-4CF9-AB50-7DA3DE17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E1B-0A69-4560-8041-E47DB29A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EA4-15DE-4C4E-AE68-55760605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08A-5313-43B8-A5D0-D7A4187A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251-D2CD-456E-81CB-E33FFFD9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6111-ED13-424C-BA81-5B9B826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D105-4FA8-43A3-B982-E6FF2483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386F-A9FD-464D-B378-ED9A0618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0507-2474-4744-B28B-27A823C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9F34-868E-4D0A-9F3D-037BE92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AAEB-3821-46C1-9EBC-6D75F13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F33-9D09-46B8-8749-E6F5538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3CB7-3595-41C5-9D98-2C465FA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263D-3E69-4E00-9B3C-074337E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A52-3067-4D2E-88FA-A954787B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E3EA-9728-4401-AE3C-12C141E7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E947-D6FB-4E63-B75B-0A7CE949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6ED-8D81-4B58-958D-228CD3F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B28-A84B-4EE4-88BB-C21E5680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CE9-18CD-4CFA-8322-55B358D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F42-AC04-45CA-8134-B9231EB7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400-8EE7-437C-86A0-E44D23F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63F-35DB-4869-B11B-D59F009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A7C-1A51-491C-975B-37A0155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F38-11DB-4092-A17C-AF49B58F5E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l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asche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6621-577F-4370-9981-D7EE064B34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Verdana"/>
              </a:rPr>
              <a:t>Erstellung eines Histogramms mit Excel und Pa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s werden hier nur Histogramme mit ungleich großen Klassenbreiten behande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500-D040-4781-97A5-CC09D2F559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merstellung mit Exc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licken Sie im fertigen Diagramm mit Rechtsklick auf eine Sä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llen Sie im Menü Datenreihe formatieren/Option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e Abstandsbrei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f Nu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46720" y="3429000"/>
            <a:ext cx="3797280" cy="31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421-FD65-433A-8648-098918FAF2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wischenergeb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D50-06F8-410B-A00A-6350D8396B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ötige Veränderung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e Klassenbreiten werden zwar richtig angeschrieben, sind jedoch nicht unterschiedlich bre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ide Randklassen müssen auf etwas mehr als das Doppelte der anderen Klassen verbreitert wer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C5B-2E36-417C-91C2-781C82ED9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rbeitung in Pa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Kopieren Sie das Diagramm mit StrgC/StrgV in PAINT (Alle Programme/Zubehö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Schneiden sie geeignete Teile des Diagramms mit dem Schneidewerkzeug au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und verschieben Sie die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14773" r="0" b="0"/>
          <a:stretch/>
        </p:blipFill>
        <p:spPr>
          <a:xfrm>
            <a:off x="6227640" y="3716280"/>
            <a:ext cx="261936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03F-6244-4CA4-BE0D-162435AA4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arbeiten in PA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gänzen Sie fehlende Striche und Farbfläch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rschieben Sie Beschriftungen wenn nöti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28608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1A4-42BA-4CDD-A1E7-5EFE05ACC4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800" spc="-1" strike="noStrike">
                <a:solidFill>
                  <a:srgbClr val="000000"/>
                </a:solidFill>
                <a:latin typeface="Verdana"/>
              </a:rPr>
              <a:t>Fertiges Histogram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0" t="1894" r="0" b="0"/>
          <a:stretch/>
        </p:blipFill>
        <p:spPr>
          <a:xfrm>
            <a:off x="826920" y="1989000"/>
            <a:ext cx="7183440" cy="37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849-4F9D-4E29-ABB6-5DE4942EF86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elle erstell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Verdana"/>
              </a:rPr>
              <a:t>Die Altersverteilung bei einer politischen Diskussionsveranstaltung entnehmen sie folgender Urliste. (Ihr Excel Dokume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Verdana"/>
              </a:rPr>
              <a:t>Markieren und benennen Sie die Daten indem Sie ihnen mit Einfügen/Namen/Definieren im Menü einen Namen zuweisen z.B d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8172360" cy="7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A75-A508-4D81-872A-9CC3A83AED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stimmung der Klassengröß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09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e haben 140 Wert für das Alter der Teilnehm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e Formel zur Berechnung der Anzahl der Klassen lautet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08000" y="4149720"/>
                <a:ext cx="55454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zah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lasse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5084640"/>
            <a:ext cx="100044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CAB-89E0-4CC3-A1EF-9E83547E39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stimmung der Klassenbrei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timmen Sie zuerst den Minimal- und dann den Maximalwert ihrer Urliste mit den entsprechenden Funktionen in Exce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lden Sie die Differenz und teilen Sie diese 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innvol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nicht gleich große Klassen ei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93080" y="3213000"/>
            <a:ext cx="1600200" cy="86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124000" y="5589720"/>
            <a:ext cx="1600200" cy="390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140360" y="5445000"/>
            <a:ext cx="2114280" cy="5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075-5CEC-4169-9F33-13F4080373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estlegung der Klassengrenz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t eckigen Klammern ( bei stetigen Werten)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23-29[   oder bei diskreten  Werten in dieser Form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3 – 2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ben Sie in einer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igenen Spalte di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öchstwerte der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lassen 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780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6CA-E614-4ED1-B7E8-30D471F87C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äufigkeitsfunktion in Exc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Sie müssen alle Felder markieren, in die Häufigkeitswerte kommen soll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Die Häufigkeitsfunktion ist eine Matrix-Funktion und wird daher mit der Tastenkombination Strg+Umschalt+Enter beende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2ED-F68D-4ADA-ADC0-838A820AFB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äufigkeitsfunk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ben Sie den Namen Ihrer Daten ei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ben Sie die Klassenobergrenzen 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5000760" cy="27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331-EBDA-47EB-9FE8-EB513A479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800" spc="-1" strike="noStrike">
                <a:solidFill>
                  <a:srgbClr val="000000"/>
                </a:solidFill>
                <a:latin typeface="Verdana"/>
              </a:rPr>
              <a:t>Hi/Klassenbrei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Im Histogramm finden Sie als Höhe der Säulen nicht Hi oder hi sondern Hi/Klassenbreite bzw. hi/Klassenbrei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Erstellen Sie diese 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Spalten in Ihrer 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Häufigkeitstabel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92" t="0" r="0" b="0"/>
          <a:stretch/>
        </p:blipFill>
        <p:spPr>
          <a:xfrm>
            <a:off x="5867280" y="3500280"/>
            <a:ext cx="257652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06F-0B21-4C89-AE3E-625F85AFB8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merstellu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Markieren Sie alle Werte in der Spalte hi/Klassenbre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Verdana"/>
              </a:rPr>
              <a:t>Erstellen sie ein Säulendiagramm in Excel mit dem Diagramm-Assisten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89556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53C-5809-4D65-B503-15ECC634E8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1:42:03Z</dcterms:created>
  <dc:creator>*</dc:creator>
  <dc:description/>
  <dc:language>en-US</dc:language>
  <cp:lastModifiedBy>*</cp:lastModifiedBy>
  <dcterms:modified xsi:type="dcterms:W3CDTF">2008-07-14T16:17:50Z</dcterms:modified>
  <cp:revision>4</cp:revision>
  <dc:subject/>
  <dc:title>Erstellung eines Histogramms mit Paint</dc:title>
</cp:coreProperties>
</file>