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D18-9D0C-4B3D-BE2E-E57D7A12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A06-7451-4C7E-B4A6-B8C7EFAD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114-113D-4FAE-A2AA-81B7D690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AAC-3C9D-46AF-9C76-FE6F4564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597-BB3F-40F6-BC7C-6F2DFF43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CA5-4D38-48BB-B1BC-240CC723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1E4-5700-479D-A32F-B9277169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581-46B3-41D4-9CF7-31FF5CF3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74A-678B-4E98-AD67-C0F7A2E7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9BD-A4FA-4D01-9264-1ECC393A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436-1BF1-407A-8031-65D911AC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B31-5FDB-4CFC-8CE9-B04E95DC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A246-5911-4C91-9A62-9F9A6585E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boutnuclear.org/i/the_atom/helium-anim.gi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pwt.de/Intradio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itiv geladene He-Ker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gativ geladene Elektron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hne Ladu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ereic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ktro-magnetische Str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044800"/>
            <a:ext cx="42480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Wirk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 wirksam wird nur der Anteil der in den Körper eingefallenen Strahlung, der mit dem Organismus unter Erzeugung von Ionenpaaren bzw. Energieabgabe in Wechselwirkung trit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18841" r="33986" b="35255"/>
          <a:stretch/>
        </p:blipFill>
        <p:spPr>
          <a:xfrm>
            <a:off x="1908000" y="4094280"/>
            <a:ext cx="5293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>
            <a:lum contrast="6000"/>
          </a:blip>
          <a:srcRect l="38992" t="39021" r="40023" b="39994"/>
          <a:stretch/>
        </p:blipFill>
        <p:spPr>
          <a:xfrm>
            <a:off x="6372360" y="177336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lium-Kerne, Teilchenmasse 4 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weifach positiv gela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latt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sehr hoch, durch Aufnahme mit Nahrung und Atemluft, radioaktiver „fallout“ nach Bombenexplosionen, Unfä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7648" b="60925"/>
          <a:stretch/>
        </p:blipFill>
        <p:spPr>
          <a:xfrm>
            <a:off x="6227640" y="1197000"/>
            <a:ext cx="2484720" cy="446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ktronen, Teilchenmasse  ca. 0,002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fach negativ ge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schwindigkeit: 90%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uch 5 cm d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„fallout“, Faktor 20 geringer als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Strah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>
            <a:lum contrast="12000"/>
          </a:blip>
          <a:srcRect l="11020" t="22520" r="14989" b="3040"/>
          <a:stretch/>
        </p:blipFill>
        <p:spPr>
          <a:xfrm>
            <a:off x="6227640" y="2060640"/>
            <a:ext cx="2664000" cy="2376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-Magnetische Strahlung, sehr energie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ef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weite in Luft: mehrere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chirmung: 20 cm Blei, 1 m B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che Gefahr: Fernwirkung bei Atomexplos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ßeinh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ktivitä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eschreibt den Zerfall radioaktiver Atomkerne  (Radionuklide);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Ionen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Energie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Äquivalent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agen etwas über die Wirkung ionisierender Strahlung in Materie a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6720" y="1197000"/>
            <a:ext cx="541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bestimmte Menge radioaktiver Atome besitzt die 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</a:rPr>
              <a:t>Aktivität von 1 Bequerel (Bq)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wenn pro sec genau ein Kern zerfällt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te Einheit: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i (Curie) = 3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q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Bq = 2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8862" r="49986" b="31319"/>
          <a:stretch/>
        </p:blipFill>
        <p:spPr>
          <a:xfrm>
            <a:off x="0" y="3573360"/>
            <a:ext cx="3276720" cy="22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5247" t="5691" r="3960" b="7560"/>
          <a:stretch/>
        </p:blipFill>
        <p:spPr>
          <a:xfrm>
            <a:off x="0" y="476280"/>
            <a:ext cx="3276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u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er Zerfall ist mit d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mission ionisierender Strahl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unden. Diese kann mit einem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eigerzäh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messen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5606" t="10828" r="0" b="0"/>
          <a:stretch/>
        </p:blipFill>
        <p:spPr>
          <a:xfrm>
            <a:off x="3924360" y="3103560"/>
            <a:ext cx="52196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Gefa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efährlichk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ines radioaktiven Stoffes wird neben der  Aktivität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on der Art der ausgesandten Strahlu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nd seiner Lebensdauer 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albwertsz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bestimm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2096" t="7658" r="17100" b="43703"/>
          <a:stretch/>
        </p:blipFill>
        <p:spPr>
          <a:xfrm>
            <a:off x="250920" y="2349360"/>
            <a:ext cx="23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2:41:19Z</dcterms:created>
  <dc:creator>Schermann</dc:creator>
  <dc:description/>
  <dc:language>en-US</dc:language>
  <cp:lastModifiedBy>Ihr Benutzername</cp:lastModifiedBy>
  <dcterms:modified xsi:type="dcterms:W3CDTF">2006-10-03T17:16:06Z</dcterms:modified>
  <cp:revision>7</cp:revision>
  <dc:subject/>
  <dc:title>Radioaktivität</dc:title>
</cp:coreProperties>
</file>