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EBC-3893-4099-8777-8363B3DA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62C-2002-4BE1-9F41-F65D8ED5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F3D-F62C-4EC4-88A1-4175F731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DDD-9EDA-4052-A9EB-BFDA2F77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8E58-DD04-433E-8F4D-D10D2DC8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F743-8FCA-4391-BF4A-E70F6BB3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B80E-18D3-47F6-89BC-26BC6461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ADE4-6090-4DAE-B3DE-90DF1C9F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F23-38F3-43B1-9F81-2F37872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DE22-90A7-482C-81AD-B812EEF7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CDAD-A8E5-4ED8-BCE1-30164322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AD1-FCB2-4576-8ABA-714CE0D5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6384-C5EF-44CB-B94F-140CCDD9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DFDB-10FC-4D3A-AA28-D3A49FB3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E33B-8CFB-42FC-AD61-BD0A10DE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E703-291F-4F4F-83FB-2B3B7E76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6619-D894-4897-B1DB-41E71540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550-EB4E-42A6-AE2C-DC2F8182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7DC-2C08-441B-8D0A-C0EFCF9F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EAD-B44F-45C7-8445-2E7E6E1D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F87-A33F-4E4A-B334-2C82B8AE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E13-CC10-412A-AC41-555E1BE1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578-B961-4E19-9881-460ECC1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CB9-91E9-4E1F-8315-9E80C7F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A104-C776-4A64-BFCC-7BC1AAC726F9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A62A-EEFD-48CC-A5F4-854340D456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E6BA-3A51-413A-897B-C1829EEA3DE0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AE97-B433-46E4-AD34-B881E4F47D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ferinternet.at/themen/cyber-mobbing/" TargetMode="External"/><Relationship Id="rId2" Type="http://schemas.openxmlformats.org/officeDocument/2006/relationships/hyperlink" Target="http://de.wikipedia.org/wiki/Cyber-Mobbing" TargetMode="External"/><Relationship Id="rId3" Type="http://schemas.openxmlformats.org/officeDocument/2006/relationships/hyperlink" Target="http://kidsweb.at/more-help/stark-im-netz/cyber-mobbing.html" TargetMode="External"/><Relationship Id="rId4" Type="http://schemas.openxmlformats.org/officeDocument/2006/relationships/image" Target="../media/image1.jpe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YBER MOBB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STELLT V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LOS LAZAREV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CYBER MOBBI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Cyber-Mobbing ist das absichtliche Beleidigen, Bedrohen, Bloßstellen oder Belästigen von Personen im Internet oder mit dem Handy – meist über einen längeren Zeitraum.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BCD-8E25-451E-A99E-398C1B246E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A3567-5DC7-4C35-89BE-A957C3401766}" type="datetime1">
              <a:rPr lang="en-US"/>
              <a:t>07/31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E SCHÜTZT MAN SICH DAV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. Bleib ruhig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. Sperre die, die dich belästige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. Antworte nicht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. Sichere Beweis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5. Rede darüber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6. Melde Problem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7. Unterstütze Opfer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8. Schütze deine Privatsphär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9. Kenne deine Recht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0. Vertraue dir!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549-B6C3-4397-880F-E1E16EB07C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EB2F0-E88B-477A-B845-42165A8B8395}" type="datetime1">
              <a:rPr lang="en-US"/>
              <a:t>07/31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BBING-ART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n der Schu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Am Arbeitsplatz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Sportvere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Altershei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Gefängn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B32-FB21-4EAC-BB91-0F0BF4F648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839A3-0ACF-4E77-A0C1-9A239347E710}" type="datetime1">
              <a:rPr lang="en-US"/>
              <a:t>07/31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ybermobbing: 13-Jähriger beging Selbstmord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in Fall von Cybermobbing hat in Kärnten im Jahr 2010 zum Freitod eines 13-Jährigen geführt. Der Schüler war via Internet als homosexuell bezeichnet worden. Seine Mutter warnt nun vor den Gefahren der Belästigung über das Interne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09A-F2A2-4C29-837D-4A96D431A1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DBD2E-6CEB-4567-82E7-8B1EBC0F2CFD}" type="datetime1">
              <a:rPr lang="en-US"/>
              <a:t>07/31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IER KÖNNT IHR MEHR ZU DIESEM THEMA ERFAHR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hemen - Cyber-Mobbing : Saferinternet.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Cyber-Mobbing – Wikip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Kidsweb: Cyber Mobb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71680" y="2441520"/>
            <a:ext cx="3390840" cy="253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840-BF2A-4989-B5C0-DBBC57208F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3A095-4286-40F8-B558-18C5F14B4B1F}" type="datetime1">
              <a:rPr lang="en-US"/>
              <a:t>07/31/26</a:t>
            </a:fld>
          </a:p>
        </p:txBody>
      </p:sp>
    </p:spTree>
  </p:cSld>
  <p:transition spd="slow">
    <p:newsflash/>
    <p:sndAc>
      <p:stSnd>
        <p:snd r:embed="rId5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015</cp:lastModifiedBy>
  <dcterms:modified xsi:type="dcterms:W3CDTF">2011-02-21T12:31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