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suction.wav" ContentType="audio/x-wav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E8D4-97E8-4ABF-A24F-A8D1666F8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59BB-87D7-4AF5-A154-3664B3D7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D613-3F83-43A7-8FD9-DE60F47DD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BE31-2784-4D0B-A7CD-F30B9E6D5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0221-A6A8-4140-A113-1A74094FA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BEF6-9BDD-4EAC-916A-ABDF8032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29CA-15AC-48A2-A680-1235B19F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51744-FF5F-4847-A4DE-65085803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FECA-56D3-4B5E-BA27-649E85F0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2711-4105-4279-AB18-B9E92CFB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A523F-781E-4147-8EDB-AE107D8C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81B5-2C59-4BF9-AC2E-B876B757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9EC7-0CDF-4DE3-8877-72CEB452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C2859-9D21-451D-A9D8-BE12DCDC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8CBB-0CEF-4576-BE96-E0036370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0056-8087-4D43-B8FE-9DB1B3BD5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F193-BFD7-44F6-A7F5-0BDCE07B1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2161-70D4-4194-9C65-044F5B5E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D8A2-0A2F-454E-B383-4791C142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75FB-0169-424C-9F06-12B6546A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A0DE-4DC1-4490-AB8E-F0AD0F1B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6ADE-6756-47AC-847B-9407DBB2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EF47-7CB1-4A49-86CE-581E7F7A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417E-0DF8-44F2-8310-1689DF38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4143-0CA0-4C3F-895A-02DA811CFEB8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160F-99FE-4C44-8FAA-0D76F320A88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0BDD-03BD-47CB-B575-0E95723AAE28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0F64-31E4-40B2-BD17-3CA85B7A5DD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aferinternet.at/themen/cyber-mobbing/" TargetMode="External"/><Relationship Id="rId2" Type="http://schemas.openxmlformats.org/officeDocument/2006/relationships/hyperlink" Target="http://de.wikipedia.org/wiki/Cyber-Mobbing" TargetMode="External"/><Relationship Id="rId3" Type="http://schemas.openxmlformats.org/officeDocument/2006/relationships/hyperlink" Target="http://kidsweb.at/more-help/stark-im-netz/cyber-mobbing.html" TargetMode="External"/><Relationship Id="rId4" Type="http://schemas.openxmlformats.org/officeDocument/2006/relationships/image" Target="../media/image1.jpeg"/><Relationship Id="rId5" Type="http://schemas.openxmlformats.org/officeDocument/2006/relationships/audio" Target="../media/suction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YBER MOBBING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RSTELLT VON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LOS LAZAREVI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newsflash/>
    <p:sndAc>
      <p:stSnd>
        <p:snd r:embed="rId1" name="suction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S IST CYBER MOBBING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de-DE" sz="3200" spc="-1" strike="noStrike">
                <a:solidFill>
                  <a:srgbClr val="ffffff"/>
                </a:solidFill>
                <a:latin typeface="Verdana"/>
              </a:rPr>
              <a:t>Cyber-Mobbing ist das absichtliche Beleidigen, Bedrohen, Bloßstellen oder Belästigen von Personen im Internet oder mit dem Handy – meist über einen längeren Zeitraum.</a:t>
            </a: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los Lazare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DEA9-DABC-4BBC-851E-6C24375B4E0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CCABA6-475B-476A-93F5-AC52A4099CF2}" type="datetime1">
              <a:rPr lang="en-US"/>
              <a:t>07/29/26</a:t>
            </a:fld>
          </a:p>
        </p:txBody>
      </p:sp>
    </p:spTree>
  </p:cSld>
  <p:transition spd="slow">
    <p:newsflash/>
    <p:sndAc>
      <p:stSnd>
        <p:snd r:embed="rId1" name="suction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IE SCHÜTZT MAN SICH DAVON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1. Bleib ruhig!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. Sperre die, die dich belästigen!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3. Antworte nicht!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4. Sichere Beweise!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5. Rede darüber!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6. Melde Probleme!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7. Unterstütze Opfer!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8. Schütze deine Privatsphäre!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9. Kenne deine Rechte!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10. Vertraue dir!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los Lazare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B2E7-736B-4BC6-B85E-29A901A5B22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2EB406-3637-4EA5-9B15-1ECC5E4413F5}" type="datetime1">
              <a:rPr lang="en-US"/>
              <a:t>07/29/26</a:t>
            </a:fld>
          </a:p>
        </p:txBody>
      </p:sp>
    </p:spTree>
  </p:cSld>
  <p:transition spd="slow">
    <p:newsflash/>
    <p:sndAc>
      <p:stSnd>
        <p:snd r:embed="rId1" name="suction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BBING-ARTE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In der Schul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Am Arbeitsplatz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Im Sportverei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Im Altersheim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Im Gefängni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Im Intern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los Lazare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C89E-DBD8-4008-B9C2-BB3078137C9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366388-99DB-47F8-9FB2-854481911EB5}" type="datetime1">
              <a:rPr lang="en-US"/>
              <a:t>07/29/26</a:t>
            </a:fld>
          </a:p>
        </p:txBody>
      </p:sp>
    </p:spTree>
  </p:cSld>
  <p:transition spd="slow">
    <p:newsflash/>
    <p:sndAc>
      <p:stSnd>
        <p:snd r:embed="rId1" name="suction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Cybermobbing: 13-Jähriger beging Selbstmord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in Fall von Cybermobbing hat in Kärnten im Jahr 2010 zum Freitod eines 13-Jährigen geführt. Der Schüler war via Internet als homosexuell bezeichnet worden. Seine Mutter warnt nun vor den Gefahren der Belästigung über das Internet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los Lazare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2404-55B6-40D5-8722-ADD78FFF3CA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77B9DC-F878-4B00-99CA-72722E6E2B0C}" type="datetime1">
              <a:rPr lang="en-US"/>
              <a:t>07/29/26</a:t>
            </a:fld>
          </a:p>
        </p:txBody>
      </p:sp>
    </p:spTree>
  </p:cSld>
  <p:transition spd="slow">
    <p:newsflash/>
    <p:sndAc>
      <p:stSnd>
        <p:snd r:embed="rId1" name="suction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IER KÖNNT IHR MEHR ZU DIESEM THEMA ERFAHRE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Themen - Cyber-Mobbing : Saferinternet.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Cyber-Mobbing – Wikiped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Kidsweb: Cyber Mobb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571680" y="2441520"/>
            <a:ext cx="3390840" cy="253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los Lazare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A0BD-FE7C-4188-9D96-4A1AD2746C4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D13473-FF30-416C-B737-1ED6DFA4DCFF}" type="datetime1">
              <a:rPr lang="en-US"/>
              <a:t>07/29/26</a:t>
            </a:fld>
          </a:p>
        </p:txBody>
      </p:sp>
    </p:spTree>
  </p:cSld>
  <p:transition spd="slow">
    <p:newsflash/>
    <p:sndAc>
      <p:stSnd>
        <p:snd r:embed="rId5" name="suction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S015</cp:lastModifiedBy>
  <dcterms:modified xsi:type="dcterms:W3CDTF">2011-02-21T12:31:1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