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776-4091-492B-AE4E-294C42DD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91C-418D-4465-8D6B-1BC54BF9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C57-17B3-4085-B3CB-A91461B1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B47-8478-4CF8-AC6E-472D6E1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7C07-CF64-44F4-9F89-39B94D6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1215-0F2D-4BE8-913E-B3C0301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AB8A-B827-42D2-8171-A11E857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584-A10C-4D67-B675-EB580BB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3D4C-2EB7-4A47-86A7-1D57211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BCDF-61A8-4E9A-A39D-825C657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655E-2825-48F7-B1F5-E0A7634F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022-3676-410A-97B8-D8E65D6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BD4F-3F23-45D1-8813-08E599F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CF0-7A13-454C-9066-5BA7AC9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1E3-5798-4A32-BF8E-B105C2E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677D-97B4-4487-A6E5-633DC6C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85A-410E-45DA-91E3-02F88D6C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CAA-8C81-4F9C-AA6F-8FBD19E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FE4-61AD-408F-93D5-770DA7C5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33C-ADD9-4CA6-A457-75731E6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247-E451-471D-AC88-5C0A9D30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CAD-0F0F-4976-8307-C7619E3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510-B548-42A5-B621-5CDE7B8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B3D-E1AE-4202-8EBF-AA661288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D477-A159-4B5F-9189-1817EC1071DE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194-D360-4E03-9727-9D4F09FE1B98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ntom-xp.com/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75600" y="1559520"/>
            <a:ext cx="3828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99cc99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33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6424560"/>
            <a:ext cx="1584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onstantia"/>
              </a:rPr>
              <a:t>Igor &amp; Dzev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2" descr=" Hintergrundbilder · Computer Bilder · Windows XP &#10; MSN Messe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548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ist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yber-Mobb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   </a:t>
            </a:r>
            <a:r>
              <a:rPr b="1" i="1" lang="de-AT" sz="3600" spc="-1" strike="noStrike">
                <a:solidFill>
                  <a:srgbClr val="3366ff"/>
                </a:solidFill>
                <a:latin typeface="Constantia"/>
              </a:rPr>
              <a:t>B</a:t>
            </a:r>
            <a:r>
              <a:rPr b="0" i="1" lang="de-AT" sz="2400" spc="-1" strike="noStrike">
                <a:solidFill>
                  <a:srgbClr val="ff0000"/>
                </a:solidFill>
                <a:latin typeface="Constantia"/>
              </a:rPr>
              <a:t>edrohen, bloßstellen oder beleidigen im Internet oder am Handy. Durch Nachrichten, E-Mail, Sms, Chatrooms, Soziale Netzwerke, Foto- oder Videoplattformen, Handy Kamera, Mailbox oder lästige Anruf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Formen vo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obbing, Bullying – psychische oder körperliche Belästigung durch einzelne oder mehrere Persone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talking – jemanden verfol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G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rooming - Anbahnung sexueller Kontak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H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appy Slapping - Filmen und Verbreiten von Übergriff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Tipps zum Schutz gege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uhig bleib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perre die, die dich belästi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A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ntworte nic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de darüb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lde Proble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chütze deine Privatsphä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V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rtraue 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ratungsste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33cc33"/>
                </a:solidFill>
                <a:latin typeface="Arial"/>
              </a:rPr>
              <a:t>1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47 Rat auf Dra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nder- und Jugendanwaltschaften Öster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chulpsychologische Beratungsstell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amilienberatungsst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O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pfernotru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T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lefonso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sagt das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G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setz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uch die Räumliche Nähe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t dem Opfer re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stellung persönlicher Daten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ontakt mit dem Opfer zu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yber%20bully"/>
          <p:cNvPicPr/>
          <p:nvPr/>
        </p:nvPicPr>
        <p:blipFill>
          <a:blip r:embed="rId1"/>
          <a:stretch/>
        </p:blipFill>
        <p:spPr>
          <a:xfrm rot="20110200">
            <a:off x="971280" y="764640"/>
            <a:ext cx="2519280" cy="17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peg-2hje0051-20081231-img_19942940_onlinebild"/>
          <p:cNvPicPr/>
          <p:nvPr/>
        </p:nvPicPr>
        <p:blipFill>
          <a:blip r:embed="rId2"/>
          <a:stretch/>
        </p:blipFill>
        <p:spPr>
          <a:xfrm rot="954600">
            <a:off x="1476360" y="3789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yberBullyREX_468x366"/>
          <p:cNvPicPr/>
          <p:nvPr/>
        </p:nvPicPr>
        <p:blipFill>
          <a:blip r:embed="rId3"/>
          <a:stretch/>
        </p:blipFill>
        <p:spPr>
          <a:xfrm rot="670800">
            <a:off x="5508360" y="3933720"/>
            <a:ext cx="244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eder+dritte+Jugendliche+wurde+schon+Opfer+von+Cyber-Mobbing+wie+b+%25285765924465%2529"/>
          <p:cNvPicPr/>
          <p:nvPr/>
        </p:nvPicPr>
        <p:blipFill>
          <a:blip r:embed="rId4"/>
          <a:stretch/>
        </p:blipFill>
        <p:spPr>
          <a:xfrm rot="20241000">
            <a:off x="5795640" y="620640"/>
            <a:ext cx="230508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7:15:33Z</dcterms:created>
  <dc:creator>WS011</dc:creator>
  <dc:description/>
  <dc:language>en-US</dc:language>
  <cp:lastModifiedBy>Helly</cp:lastModifiedBy>
  <dcterms:modified xsi:type="dcterms:W3CDTF">2011-03-09T16:41:36Z</dcterms:modified>
  <cp:revision>4</cp:revision>
  <dc:subject/>
  <dc:title>Cyber-Mobbing</dc:title>
</cp:coreProperties>
</file>