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3EE-1217-4EE5-84A6-E435A02F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236-B221-4DDA-9B71-26B06D21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CE1-7D5B-4A02-8257-39CC01C5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24D-BE0B-4E9B-A36D-ABBE8849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CB6D-83BF-4A62-A211-A656F9AD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CE9E-3520-4E33-94C0-C14C7508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E09F-C9E7-4DF0-A4D8-17768D96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F6A3-3DC3-4641-A14F-1FB2DF17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9EA6-5563-4B15-8518-9EECC028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6B53-FC56-4EF3-B843-4667450F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C812-DA20-458F-A22A-A17FAE5E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972-9476-4787-BAC0-0A6F4737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E689-A9EA-483D-BB1A-81D4FA11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FBCE-E376-479C-9245-924780AA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2B01-FB14-4347-B09B-A1E102F2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80DF-9D82-44AD-BBEA-B3E65B65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9750-2F6C-4A62-9AC6-EE86ECFF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0DF-3029-4345-AA24-146BAE23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430-3911-4513-ABB6-33BA23BC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76E-1649-4838-BD5B-AAB94896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1B3-5CCA-476A-BE5A-D318E89C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7C4-4901-4700-B9AE-D507F37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485-2E5D-4FC4-8D12-0018A53A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522-9AC0-48A1-941E-E056F85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A719-CFD3-4494-8AB3-E1583D2815FA}" type="slidenum">
              <a:rPr b="1" lang="de-A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9D6B-3180-4DAC-98A3-BB859F616A0E}" type="slidenum">
              <a:rPr b="1" lang="de-A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antom-xp.com/r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775600" y="1559520"/>
            <a:ext cx="38286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99cc99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3366"/>
                </a:solidFill>
                <a:latin typeface="Constantia"/>
              </a:rPr>
              <a:t>yber-Mob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-360" y="6424560"/>
            <a:ext cx="1584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ffff"/>
                </a:solidFill>
                <a:latin typeface="Constantia"/>
              </a:rPr>
              <a:t>Igor &amp; Dzeva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2" descr=" Hintergrundbilder · Computer Bilder · Windows XP &#10; MSN Messeng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54836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Was ist </a:t>
            </a:r>
            <a:r>
              <a:rPr b="1" lang="de-AT" sz="4800" spc="-1" strike="noStrike">
                <a:solidFill>
                  <a:srgbClr val="33cc33"/>
                </a:solidFill>
                <a:latin typeface="Arial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yber-Mobb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   </a:t>
            </a:r>
            <a:r>
              <a:rPr b="1" i="1" lang="de-AT" sz="3600" spc="-1" strike="noStrike">
                <a:solidFill>
                  <a:srgbClr val="3366ff"/>
                </a:solidFill>
                <a:latin typeface="Constantia"/>
              </a:rPr>
              <a:t>B</a:t>
            </a:r>
            <a:r>
              <a:rPr b="0" i="1" lang="de-AT" sz="2400" spc="-1" strike="noStrike">
                <a:solidFill>
                  <a:srgbClr val="ff0000"/>
                </a:solidFill>
                <a:latin typeface="Constantia"/>
              </a:rPr>
              <a:t>edrohen, bloßstellen oder beleidigen im Internet oder am Handy. Durch Nachrichten, E-Mail, Sms, Chatrooms, Soziale Netzwerke, Foto- oder Videoplattformen, Handy Kamera, Mailbox oder lästige Anruf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Formen von </a:t>
            </a:r>
            <a:r>
              <a:rPr b="1" lang="de-AT" sz="4800" spc="-1" strike="noStrike">
                <a:solidFill>
                  <a:srgbClr val="33cc33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yber-Mob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M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obbing, Bullying – psychische oder körperliche Belästigung durch einzelne oder mehrere Persone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talking – jemanden verfol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G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rooming - Anbahnung sexueller Kontak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H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appy Slapping - Filmen und Verbreiten von Übergriff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Tipps zum Schutz gegen </a:t>
            </a:r>
            <a:r>
              <a:rPr b="1" lang="de-AT" sz="4800" spc="-1" strike="noStrike">
                <a:solidFill>
                  <a:srgbClr val="33cc33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Constantia"/>
              </a:rPr>
              <a:t>R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uhig bleib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perre die, die dich belästig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A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ntworte nic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R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de darüb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M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lde Proble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chütze deine Privatsphä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V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rtraue d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eratungsstel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33cc33"/>
                </a:solidFill>
                <a:latin typeface="Arial"/>
              </a:rPr>
              <a:t>1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47 Rat auf Dra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K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inder- und Jugendanwaltschaften Österreic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S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chulpsychologische Beratungsstell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F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amilienberatungsstell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O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pfernotru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T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elefonso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Was sagt das </a:t>
            </a:r>
            <a:r>
              <a:rPr b="1" lang="de-AT" sz="4800" spc="-1" strike="noStrike">
                <a:solidFill>
                  <a:srgbClr val="33cc33"/>
                </a:solidFill>
                <a:latin typeface="Arial"/>
              </a:rPr>
              <a:t>G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esetz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S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uch die Räumliche Nähe des Op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it dem Opfer re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estellung persönlicher Daten des Op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K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ontakt mit dem Opfer zu hab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cyber%20bully"/>
          <p:cNvPicPr/>
          <p:nvPr/>
        </p:nvPicPr>
        <p:blipFill>
          <a:blip r:embed="rId1"/>
          <a:stretch/>
        </p:blipFill>
        <p:spPr>
          <a:xfrm rot="20110200">
            <a:off x="971280" y="764640"/>
            <a:ext cx="2519280" cy="177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jpeg-2hje0051-20081231-img_19942940_onlinebild"/>
          <p:cNvPicPr/>
          <p:nvPr/>
        </p:nvPicPr>
        <p:blipFill>
          <a:blip r:embed="rId2"/>
          <a:stretch/>
        </p:blipFill>
        <p:spPr>
          <a:xfrm rot="954600">
            <a:off x="1476360" y="3789000"/>
            <a:ext cx="273528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CyberBullyREX_468x366"/>
          <p:cNvPicPr/>
          <p:nvPr/>
        </p:nvPicPr>
        <p:blipFill>
          <a:blip r:embed="rId3"/>
          <a:stretch/>
        </p:blipFill>
        <p:spPr>
          <a:xfrm rot="670800">
            <a:off x="5508360" y="3933720"/>
            <a:ext cx="2448000" cy="181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Jeder+dritte+Jugendliche+wurde+schon+Opfer+von+Cyber-Mobbing+wie+b+%25285765924465%2529"/>
          <p:cNvPicPr/>
          <p:nvPr/>
        </p:nvPicPr>
        <p:blipFill>
          <a:blip r:embed="rId4"/>
          <a:stretch/>
        </p:blipFill>
        <p:spPr>
          <a:xfrm rot="20241000">
            <a:off x="5795640" y="620640"/>
            <a:ext cx="2305080" cy="19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7:15:33Z</dcterms:created>
  <dc:creator>WS011</dc:creator>
  <dc:description/>
  <dc:language>en-US</dc:language>
  <cp:lastModifiedBy>Helly</cp:lastModifiedBy>
  <dcterms:modified xsi:type="dcterms:W3CDTF">2011-03-09T16:41:36Z</dcterms:modified>
  <cp:revision>4</cp:revision>
  <dc:subject/>
  <dc:title>Cyber-Mobbing</dc:title>
</cp:coreProperties>
</file>