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0B4-32A0-473B-87F1-8EA3F304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C08-31F9-4FDC-9073-D5C033D5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ECF-B96C-480D-B53A-5264FE74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CE1-959D-4F0C-95EA-1C5F0D44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4E8-18C6-47C0-9620-8C44B473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9E9-64A2-4A34-AFEA-AE2FEFF3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E9B-8C60-40DB-AE7C-88A1EC51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23A-0428-4993-9BA2-2FD9F23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BF0-D9A9-4A18-B78B-18F57B7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C57-7221-4202-9730-AA536DF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2CA-FC5A-4F79-8765-EB808F7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0E6-D945-468F-80C4-E2BB139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E7EC-AB67-45C4-ACBC-7D198ABA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r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21000"/>
            <a:ext cx="2735280" cy="2233440"/>
          </a:xfrm>
          <a:prstGeom prst="cloudCallout">
            <a:avLst>
              <a:gd name="adj1" fmla="val -31370"/>
              <a:gd name="adj2" fmla="val 8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565360"/>
            <a:ext cx="2303640" cy="1511280"/>
          </a:xfrm>
          <a:prstGeom prst="cloudCallout">
            <a:avLst>
              <a:gd name="adj1" fmla="val -75569"/>
              <a:gd name="adj2" fmla="val 124157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637000"/>
            <a:ext cx="1872000" cy="129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51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man mit Online- Banking mach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d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ld abh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6300720" y="4076640"/>
            <a:ext cx="2843280" cy="2233800"/>
          </a:xfrm>
          <a:prstGeom prst="cloudCallout">
            <a:avLst>
              <a:gd name="adj1" fmla="val -25546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scheine in Münzen wech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700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zu verwendet man E-M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522520"/>
          </a:xfrm>
          <a:prstGeom prst="cloudCallout">
            <a:avLst>
              <a:gd name="adj1" fmla="val 14921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Geld zu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Nachrichten zu ver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k ab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s Satzzeichen gehört ans Ende des folgenden Sat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Spiele kann man im Internet nic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395280" y="4437000"/>
            <a:ext cx="2735280" cy="2233800"/>
          </a:xfrm>
          <a:prstGeom prst="cloudCallout">
            <a:avLst>
              <a:gd name="adj1" fmla="val -5134"/>
              <a:gd name="adj2" fmla="val -92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780000" y="4797360"/>
            <a:ext cx="2592360" cy="1511280"/>
          </a:xfrm>
          <a:prstGeom prst="cloudCallout">
            <a:avLst>
              <a:gd name="adj1" fmla="val -39833"/>
              <a:gd name="adj2" fmla="val -13088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ölke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6804000" y="5013360"/>
            <a:ext cx="1871640" cy="1297080"/>
          </a:xfrm>
          <a:prstGeom prst="cloudCallout">
            <a:avLst>
              <a:gd name="adj1" fmla="val -39736"/>
              <a:gd name="adj2" fmla="val -1511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18900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ch einmal von vo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14172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äsentation been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276720" y="549360"/>
            <a:ext cx="2158920" cy="1800000"/>
          </a:xfrm>
          <a:prstGeom prst="smileyFace">
            <a:avLst>
              <a:gd name="adj" fmla="val -4652"/>
            </a:avLst>
          </a:prstGeom>
          <a:solidFill>
            <a:srgbClr val="e74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49228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war leider nicht ri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uch es noch ein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908000" y="4437000"/>
            <a:ext cx="5185080" cy="1152720"/>
          </a:xfrm>
          <a:prstGeom prst="leftArrow">
            <a:avLst>
              <a:gd name="adj1" fmla="val 50000"/>
              <a:gd name="adj2" fmla="val 112453"/>
            </a:avLst>
          </a:prstGeom>
          <a:solidFill>
            <a:srgbClr val="3ac6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önnen Viren anri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in die Luft sp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zum Absturz 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anz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Informationen geben wir sehr o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n uns prei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. B Fac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3357720"/>
            <a:ext cx="3132000" cy="2665080"/>
          </a:xfrm>
          <a:prstGeom prst="cloudCallout">
            <a:avLst>
              <a:gd name="adj1" fmla="val 22782"/>
              <a:gd name="adj2" fmla="val -7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– 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3132000" y="4292640"/>
            <a:ext cx="3240360" cy="1800360"/>
          </a:xfrm>
          <a:prstGeom prst="cloudCallout">
            <a:avLst>
              <a:gd name="adj1" fmla="val -26333"/>
              <a:gd name="adj2" fmla="val -14180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uhgröß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6300720" y="3357720"/>
            <a:ext cx="2843280" cy="1944360"/>
          </a:xfrm>
          <a:prstGeom prst="cloudCallout">
            <a:avLst>
              <a:gd name="adj1" fmla="val -44638"/>
              <a:gd name="adj2" fmla="val -7971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H-Grö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fahren gib es im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3213000"/>
            <a:ext cx="3348000" cy="1800360"/>
          </a:xfrm>
          <a:prstGeom prst="cloudCallout">
            <a:avLst>
              <a:gd name="adj1" fmla="val 50282"/>
              <a:gd name="adj2" fmla="val -7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nupfen bekom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627280" y="4869000"/>
            <a:ext cx="3311640" cy="1584360"/>
          </a:xfrm>
          <a:prstGeom prst="cloudCallout">
            <a:avLst>
              <a:gd name="adj1" fmla="val 1629"/>
              <a:gd name="adj2" fmla="val -17494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ern 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46920" y="3357720"/>
            <a:ext cx="2701800" cy="1439640"/>
          </a:xfrm>
          <a:prstGeom prst="cloudCallout">
            <a:avLst>
              <a:gd name="adj1" fmla="val -35254"/>
              <a:gd name="adj2" fmla="val -823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darf Facebook nicht ma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3860640"/>
            <a:ext cx="2986200" cy="2089440"/>
          </a:xfrm>
          <a:prstGeom prst="cloudCallout">
            <a:avLst>
              <a:gd name="adj1" fmla="val 32935"/>
              <a:gd name="adj2" fmla="val -9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2700360" y="4724280"/>
            <a:ext cx="2952720" cy="1729080"/>
          </a:xfrm>
          <a:prstGeom prst="cloudCallout">
            <a:avLst>
              <a:gd name="adj1" fmla="val -3546"/>
              <a:gd name="adj2" fmla="val -160101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724360" y="4076640"/>
            <a:ext cx="3276720" cy="2232000"/>
          </a:xfrm>
          <a:prstGeom prst="cloudCallout">
            <a:avLst>
              <a:gd name="adj1" fmla="val -9203"/>
              <a:gd name="adj2" fmla="val -970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Privateinstel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n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268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werden Computerviren oft verschick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1513080"/>
          </a:xfrm>
          <a:prstGeom prst="cloudCallout">
            <a:avLst>
              <a:gd name="adj1" fmla="val 32935"/>
              <a:gd name="adj2" fmla="val -12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E 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2843280" y="5013360"/>
            <a:ext cx="3024000" cy="1512720"/>
          </a:xfrm>
          <a:prstGeom prst="cloudCallout">
            <a:avLst>
              <a:gd name="adj1" fmla="val 1231"/>
              <a:gd name="adj2" fmla="val -18032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6227640" y="3860640"/>
            <a:ext cx="2556000" cy="2233800"/>
          </a:xfrm>
          <a:prstGeom prst="cloudCallout">
            <a:avLst>
              <a:gd name="adj1" fmla="val -26398"/>
              <a:gd name="adj2" fmla="val -945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Briefta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Schlimmes beim Chat passi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665440"/>
          </a:xfrm>
          <a:prstGeom prst="cloudCallout">
            <a:avLst>
              <a:gd name="adj1" fmla="val 24564"/>
              <a:gd name="adj2" fmla="val -9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ute geben an, jemand anderer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Brieftaube ersch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6119640" y="3068640"/>
            <a:ext cx="3024360" cy="1800360"/>
          </a:xfrm>
          <a:prstGeom prst="cloudCallout">
            <a:avLst>
              <a:gd name="adj1" fmla="val -53777"/>
              <a:gd name="adj2" fmla="val -715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Bildschirm zerb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passieren, wenn man beim Downloa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 Programmen nicht aufpas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2995"/>
              <a:gd name="adj2" fmla="val -99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Maus wird zerstö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76720" y="4149720"/>
            <a:ext cx="3311280" cy="2305080"/>
          </a:xfrm>
          <a:prstGeom prst="cloudCallout">
            <a:avLst>
              <a:gd name="adj1" fmla="val -17305"/>
              <a:gd name="adj2" fmla="val -9806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muss für die Programme be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44222"/>
              <a:gd name="adj2" fmla="val -10529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Computer beginnt zu t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edeutet das Wort „Phisching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Computer wird und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18120"/>
              <a:gd name="adj2" fmla="val -7493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verwendet die Maus als Köder zum F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156360" y="4365720"/>
            <a:ext cx="2987640" cy="2233440"/>
          </a:xfrm>
          <a:prstGeom prst="cloudCallout">
            <a:avLst>
              <a:gd name="adj1" fmla="val -21893"/>
              <a:gd name="adj2" fmla="val -79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unerlaubte Abfrage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6:59Z</dcterms:created>
  <dc:creator>WS003</dc:creator>
  <dc:description/>
  <dc:language>en-US</dc:language>
  <cp:lastModifiedBy>WS006</cp:lastModifiedBy>
  <dcterms:modified xsi:type="dcterms:W3CDTF">2011-03-09T11:20:05Z</dcterms:modified>
  <cp:revision>39</cp:revision>
  <dc:subject/>
  <dc:title>Satzzeichen</dc:title>
</cp:coreProperties>
</file>