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3CEB-3DD0-40B1-8B33-397CB180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B4E2-B8D2-414B-BD54-B5FDFB5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511C-D5AE-4789-9971-FA706FA5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6F90-2EB5-4FF6-8F67-2AB1B3E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ED2E-4BC1-481D-8B87-DC48C6BC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47F7-6DB4-4C8F-B090-51DDF986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A6D4-7A6A-41E0-8367-E8759E86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1AC-BC29-4D5C-9285-0E665E6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B84-F6F4-4425-A1FE-1915FE70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14440" y="2315880"/>
            <a:ext cx="5829120" cy="118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5E9D-E480-4D75-9843-2B810404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EF8-C9E3-4596-9E68-CCCFF9D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CEB1-E930-4554-804A-41543C9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2B43-0F48-4835-8F57-E129153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B5EC-2CC8-44A7-B7EC-8A14B11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FAC-9880-4146-A030-B741DD2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17AC-86F6-4061-A250-82204121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D32-4F35-4A18-BCCF-FA81F61E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4207-C323-415F-A603-A43C172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164F-3E2F-4F9A-8B2D-2CF80FA9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BAF5-658F-4707-B902-3A8FADAF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2315880"/>
            <a:ext cx="5829120" cy="118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D47A-055F-4EFE-ABAA-337D26D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44F9-48C5-4FFC-8E2F-A6E01F1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8252-CEAF-40E4-B4BF-D32C9EA5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6C6A-1522-4E0C-99D3-B355A43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3580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1425-2061-405B-8B90-325F0F131E5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3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4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2343240" y="83311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51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43240" y="833580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4914720" y="83390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38AB-DEEC-4F5D-AE78-567931EC283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1589" t="0" r="17478" b="5453"/>
          <a:stretch/>
        </p:blipFill>
        <p:spPr>
          <a:xfrm>
            <a:off x="476280" y="2268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34866" t="12507" r="26036" b="31169"/>
          <a:stretch/>
        </p:blipFill>
        <p:spPr>
          <a:xfrm>
            <a:off x="3573360" y="4356000"/>
            <a:ext cx="2867040" cy="309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9360" y="6443640"/>
            <a:ext cx="2665440" cy="200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228600"/>
            <a:ext cx="42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Garamond Bold"/>
              </a:rPr>
              <a:t>ZUKUNFTS-HAN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133720"/>
            <a:ext cx="30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iertes Feuerze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alkam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33412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Mp3 Play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GB USB-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3360" y="7556400"/>
            <a:ext cx="328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Magnesium Gehä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olographisches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34340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uerze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486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asertastat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7:58:30Z</dcterms:created>
  <dc:creator>twidmoser</dc:creator>
  <dc:description/>
  <dc:language>en-US</dc:language>
  <cp:lastModifiedBy>Bischöfliches Gymnasium</cp:lastModifiedBy>
  <dcterms:modified xsi:type="dcterms:W3CDTF">2005-06-12T09:11:01Z</dcterms:modified>
  <cp:revision>7</cp:revision>
  <dc:subject/>
  <dc:title>Folie 1</dc:title>
</cp:coreProperties>
</file>