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896-EB5E-46C8-A4A6-34FA638F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6B1-391F-4E0B-B2C2-056C134D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1D0-421A-4D6E-AFBD-1BC6F54B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93C-89C4-4FC8-990A-95D0CBB7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4BB0-6CBB-4677-A26A-62ABAC71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FE2E-3FC7-4E9C-9D35-15DF28A6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04CE-B962-48CE-BF98-6DBE202F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7AD0-9507-429A-95DD-C6A44524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065B-BA0B-41E6-B0E6-07913BC2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5AB3-E239-460A-BDDD-B63A2553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AB29-81C5-41BA-9966-F9A82F66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A9C-EE67-4E20-87F1-A1B9D1B5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E9CD-30AB-4652-988A-BE81DA02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3308-D044-498A-B7BA-57874483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E631-6D8E-4EB2-B7B8-B31801C6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F69A-08F8-44A6-8B0D-4D58CD91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DCD3-011E-4B50-8F79-DDE1CDC6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C06-63BA-4A4D-9696-3E60441F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970-A025-4FF2-BF0A-06A4BBC7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ABA-D428-44D3-8742-32D9B53A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42A-83CC-4F80-9125-ECAAB40D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31E-E28D-4502-94BB-384F9520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248-414B-4B58-8007-F5343EA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585-1081-4A1B-A588-43672013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AB20-B9C5-4E60-9C64-2EBDC48BF99A}" type="slidenum"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techstrip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AA80-9FDE-4703-AED5-4B20418049EC}" type="slidenum"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545"/>
                </a:solidFill>
                <a:latin typeface="Impact"/>
              </a:rPr>
              <a:t>Die Zukunft des Handys</a:t>
            </a:r>
            <a:endParaRPr b="0" lang="en-US" sz="48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6600"/>
                </a:solidFill>
                <a:uFillTx/>
                <a:latin typeface="Arial Narrow"/>
              </a:rPr>
              <a:t>Hat bereits begonnen ..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Entwicklungsbereiche des Handy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nergieversorgu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biles TV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andy als Zahlungsmitt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ere nützliche Spielerei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Design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punkto Design wird sich ständig etwas weiterentwickeln. Das Aussehen der Handys wird immer eigentümlicher und zugleich modischer werden. Außerdem werden sie immer leichter und kleine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75284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Energieversorgung</a:t>
            </a:r>
            <a:br>
              <a:rPr sz="4400"/>
            </a:br>
            <a:r>
              <a:rPr b="0" lang="en-US" sz="2400" spc="-1" strike="noStrike">
                <a:solidFill>
                  <a:srgbClr val="ffc545"/>
                </a:solidFill>
                <a:latin typeface="Impact"/>
              </a:rPr>
              <a:t>Brennstoffzelle ersetzt Akku</a:t>
            </a:r>
            <a:endParaRPr b="0" lang="en-US" sz="2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der abnehmbaren Ladestation des Handys befindet sich die Brennstoffzelle, die mit Methanol-Patronen befüllt wird. Die Abfallprodukte der chemischen Reaktion sind Wasser und Kohlendioxid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733920" cy="280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Mobiles TV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Berlin läuft derzeit der Versuch, Fernsehen auf das Handy zu bringen. Videodateien können aber bereits auf abspielfähigen Geräten wiedergegeben werden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 einer Universität wurde bereits an einer Software gearbeitet, die z.B. Jugendlichen in Zukunft als Museumsführer dienen sol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Handy als Zahlungsmitte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Japan bereits erhältlich, soll es auch bei uns in geraumer Zukunft Mobiltelefone geben, die als „Geldbörsen“ (Chip) diene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 sollte dann mit dem Handy auch Strichcodes einscannen können, damit das Gerät dann die Preise im Internet vergleich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Zahlen in Österreich schon möglich!!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98560" y="19810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Andere nützliche Spielereien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r Kreativität der Handy-Firmen sind keine Grenzen gesetzt. Es werden immer neuere Funktionen hinzugefügt werden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eruchserkennungschips, Brandmelder, Benutzeridentifikation mit Hilfe eines Fingerabdruckscanners, Alkotester, ..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2371680"/>
            <a:ext cx="4191120" cy="3056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6:44:49Z</dcterms:created>
  <dc:creator>Johann Kendlbacher</dc:creator>
  <dc:description/>
  <dc:language>en-US</dc:language>
  <cp:lastModifiedBy>Bischöfliches Gymnasium</cp:lastModifiedBy>
  <dcterms:modified xsi:type="dcterms:W3CDTF">2005-06-12T09:10:05Z</dcterms:modified>
  <cp:revision>5</cp:revision>
  <dc:subject/>
  <dc:title>Die Zukunft des Handys</dc:title>
</cp:coreProperties>
</file>