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E09-80DE-4EBB-B9C6-85FA0A52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B0A-523C-4ACA-9505-BBDCF650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615-E2BE-43D1-8C4C-C6828EB7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349-5EC1-417C-B0E8-C00DA1C5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94EC5-28D7-4507-9E46-3E80004F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97154-0AA2-48CD-9F42-2453C14D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02A23-B649-4B4E-A9F7-2661F775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40B37-B4B9-4D11-95D0-74B3D299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EDA02-A581-4C15-802C-A829403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B5B11-3A8D-4098-ABDA-E143C3D1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ECDAD-AD65-4888-AFDE-66E9AA78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658-207B-4C2E-8BFB-D3587B22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E0049-1A53-451C-8515-B01F37ED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7FDB6-289F-4F3F-A323-120599F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F4EF8-B4B8-4D3D-A000-A009E39F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0605-D4CA-4E65-B177-985FB075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5CDA5-BAF7-4128-81D6-58966854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F94-A646-4A9F-B14E-94ADFE24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09F-764D-4250-9313-F3720B88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278-47F5-4849-BA06-CA8C6EEE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7E9-B666-4EBF-9C1D-92FEF838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A66-F30D-41F5-8C42-AB4ABC13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DC2-358D-4357-83DC-D16DB2E2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57D-49C4-4E00-B055-4D01EAB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B869-3716-4C2B-AA73-065C13ADB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34BF-C267-4099-8F79-A8B01531C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Zukunftsvisione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Fabian Grai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omas Kohlb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9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harlesworth"/>
              </a:rPr>
              <a:t>Desig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4030560"/>
            <a:ext cx="403848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s Display wird in Zukunft auch wireless auf Brillen übertragen wer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79920" y="1557360"/>
            <a:ext cx="2592360" cy="468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60560" y="1905120"/>
            <a:ext cx="2830320" cy="19875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istungsfähigke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ößerer Speicher durch Speicherkar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besserte Akkuleistun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ar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2089440" cy="2089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716360" y="400536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bmessun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Größe des Handys wird sich noch weiter reduzier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3848040" cy="27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s Display der Zukunf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Display vereint Megapixeltechnologie mit der Fähigkeit mittels  integrierter Solarzellen das Handy mit Strom zu versor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ver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s Handy als Allzweckgerä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mometer/Barometer/Hygrometer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nti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erpointer für Präsentatio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schenlam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ngebaute Videokamera mit leistungsfähigerem Objekt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9000"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r danken für Ihre Aufmerksamke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9000">
    <p:cover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7:45:37Z</dcterms:created>
  <dc:creator>tkohlbacher</dc:creator>
  <dc:description/>
  <dc:language>en-US</dc:language>
  <cp:lastModifiedBy>tkohlbacher</cp:lastModifiedBy>
  <dcterms:modified xsi:type="dcterms:W3CDTF">2005-01-24T08:12:19Z</dcterms:modified>
  <cp:revision>14</cp:revision>
  <dc:subject/>
  <dc:title>Zukunftsvisionen </dc:title>
</cp:coreProperties>
</file>