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D47-0A51-48BA-B5D6-0D2ECD92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C26-077A-4A6D-B213-D02691C0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FB6-1E74-4399-A460-9923938F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C6DE-1B28-48C6-B737-F5408821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2490E-422A-4AE4-9688-AAACBC5D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53C41-6D50-4B40-A291-CD99955E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662E0-265B-4655-A694-B740F5D0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C7D08-E389-4895-AE41-6E115E2B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4A932-1A84-4DC5-B22F-15A98CD6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ECFD8-BD1D-4F62-B48E-7FD1ECB3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A4416-1009-489C-8B6B-37D9D77A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CE6-9124-4D9D-BDAE-53AAFD73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C426F-CAA0-4637-8B77-3C014A89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9FD8A-534A-48D2-B852-5FF8F5C4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0BFE9-BCCB-476D-A917-40762EDF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5D4CB-C222-47E8-A28B-4EA2DF32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6D96B-AB4A-4D2F-8D19-F5D4D974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649-5521-4303-AEF5-6C3CB44D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D46A-8587-4A92-BE5A-F657C9B6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740-22A7-44D2-91DD-0F5995B9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46D-176B-4C54-B289-79195639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9FD-CDA8-4E0E-83B9-5932E107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E24-1256-4E94-BF21-18806710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7A00-A419-4BCB-9B73-2D353303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011D-DF77-4D04-AEE0-1C40D0555A6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01C5-8189-4F92-B5D4-20E52695160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53352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Vom Handy zum vernetzten Us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914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usrüstung der Klasse 2004/2005 Stand Oktober 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2898720"/>
          <a:ext cx="4724280" cy="395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898720"/>
                    <a:ext cx="472428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04920" y="19051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teilung auf Österreichische Net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86200" y="2806560"/>
          <a:ext cx="5089680" cy="405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06560"/>
                    <a:ext cx="508968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572000" y="2209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teilung auf Herste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as können unsere Handy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905120"/>
          <a:ext cx="5029200" cy="48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502920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191120" y="1612800"/>
          <a:ext cx="8773920" cy="524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1120" y="1612800"/>
                    <a:ext cx="877392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06:37:55Z</dcterms:created>
  <dc:creator>tkohlbacher</dc:creator>
  <dc:description/>
  <dc:language>en-US</dc:language>
  <cp:lastModifiedBy>Bischöfliches Gymnasium</cp:lastModifiedBy>
  <dcterms:modified xsi:type="dcterms:W3CDTF">2005-06-12T08:51:56Z</dcterms:modified>
  <cp:revision>12</cp:revision>
  <dc:subject/>
  <dc:title>Vom Handy zum vernetzten User</dc:title>
</cp:coreProperties>
</file>