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applause.wav" ContentType="audio/x-wav"/>
  <Override PartName="/ppt/media/image6.jpeg" ContentType="image/jpeg"/>
  <Override PartName="/ppt/media/image8.png" ContentType="image/png"/>
  <Override PartName="/ppt/media/image12.wmf" ContentType="image/x-wmf"/>
  <Override PartName="/ppt/media/carbrake.wav" ContentType="audio/x-wav"/>
  <Override PartName="/ppt/media/image17.jpeg" ContentType="image/jpeg"/>
  <Override PartName="/ppt/media/cashreg.wav" ContentType="audio/x-wav"/>
  <Override PartName="/ppt/media/image9.png" ContentType="image/png"/>
  <Override PartName="/ppt/media/image13.wmf" ContentType="image/x-wmf"/>
  <Override PartName="/ppt/media/image10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5.wmf" ContentType="image/x-wmf"/>
  <Override PartName="/ppt/media/image16.jpeg" ContentType="image/jpeg"/>
  <Override PartName="/ppt/media/ricochet.wav" ContentType="audio/x-wav"/>
  <Override PartName="/ppt/media/image18.jpeg" ContentType="image/jpeg"/>
  <Override PartName="/ppt/media/image19.jpeg" ContentType="image/jpeg"/>
  <Override PartName="/ppt/media/image21.png" ContentType="image/png"/>
  <Override PartName="/ppt/media/image14.jpeg" ContentType="image/jpeg"/>
  <Override PartName="/ppt/media/driveby.wav" ContentType="audio/x-wav"/>
  <Override PartName="/ppt/media/image11.wmf" ContentType="image/x-wmf"/>
  <Override PartName="/ppt/media/explode.wav" ContentType="audio/x-wav"/>
  <Override PartName="/ppt/media/image22.wmf" ContentType="image/x-wmf"/>
  <Override PartName="/ppt/media/image20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77D-88D5-4EA2-BD26-9C321577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555-2BF2-4D69-956D-7B81AF8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EFF-6403-428F-9AFA-23A26DE2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409-4B10-43D6-8423-864C0AB6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A041-3F7B-4282-A33B-5EEB13D9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02FD-843A-4D55-8B6D-E9D7028C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C1E4-6B35-4159-999D-5E32D6FA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DD1-962A-4EC1-8BE6-BCECFCA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F6FA-C035-4240-9829-83E3248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3D17-429C-45D0-91EA-C61AA88D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DBB4-79B1-447D-AD1B-D4930AC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69D-E04E-4F7B-9D9D-040BEF49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DE42-1AB4-48C1-B1DF-AEFC34F3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96D-3C47-4CD5-9AE3-6CC95C2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56D-3AD5-4A83-8EB6-FCCD88BB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1812-E37F-4522-9769-1D4C1BF3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1110-B02C-4567-A83A-9111F90F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6CA0-6436-4E8A-BE9A-33CEEF9E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B504-919C-46DB-A136-70C658E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C080-1D68-4803-AC55-8983CBF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8C5F-96EC-473C-A881-EF8AA8B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6DF0-7470-45FE-B69C-02884CD3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EAD-F06F-4FF0-9515-D8037405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3D34-9028-4B12-B139-A531CF88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DC1C-F63A-46AE-8CBF-4D240CB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4378-7467-4D75-9FC1-990C14B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0C20-2785-48AD-BB6E-0265581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20624-7EAF-4648-9AB8-55042B7E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6CDC-B9A7-41AE-8534-92B04CC3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F71A-A877-41B6-B8F3-41C66162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3B5-C115-4822-AF15-A4CF4943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483-E915-41E1-8BA1-4EDEA5E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6BA-BB28-42A3-AEE1-50D1733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02E-2658-414A-B78C-4887073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BC5-5F15-4518-9756-C69CED4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70C-DB42-410C-9DA3-A640416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6EA9-6EBD-4F1B-B0FB-75203181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330-0D5D-450E-A501-AE25938C93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A1C6-81EE-4DD7-80A9-4B887340F0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hyperlink" Target="http://images.google.at/imgres?imgurl=http://www.telering.at/Content.Node/unternehmen/telering-Logo.jpg&amp;imgrefurl=http://www.telering.at/Content.Node/presse/548.php&amp;h=591&amp;w=591&amp;sz=27&amp;tbnid=nxbmd-tI6EoJ:&amp;tbnh=132&amp;tbnw=132&amp;start=1&amp;prev=/images%3Fq%3Dtelering%26hl%3Dde%26lr%3D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at/imgres?imgurl=http://laflammerouge.com/archives/images/T-Mobile_4-thumb.jpg&amp;imgrefurl=http://laflammerouge.com/archives/2004_01.php&amp;h=245&amp;w=197&amp;sz=10&amp;tbnid=wMtZhsmWwTAJ:&amp;tbnh=104&amp;tbnw=84&amp;start=16&amp;prev=/images%3Fq%3Dt-mobile%26hl%3Dde%26lr%3D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one.at/cgi-bin/onechp/onechp/home/home.do?pageType=0&amp;pagePath=/common/chpstartguest.jsp&amp;channelId=-8126&amp;pageFlag=guest&amp;BV_SessionID=@@@@1156696706.1099641112@@@@&amp;BV_EngineID=ccdhadcmmilkdgfcfngcfkmdhkgdgno.0" TargetMode="External"/><Relationship Id="rId8" Type="http://schemas.openxmlformats.org/officeDocument/2006/relationships/image" Target="../media/image8.png"/><Relationship Id="rId9" Type="http://schemas.openxmlformats.org/officeDocument/2006/relationships/hyperlink" Target="http://www.a1.net/index" TargetMode="External"/><Relationship Id="rId10" Type="http://schemas.openxmlformats.org/officeDocument/2006/relationships/image" Target="../media/image9.png"/><Relationship Id="rId11" Type="http://schemas.openxmlformats.org/officeDocument/2006/relationships/hyperlink" Target="http://images.google.at/imgres?imgurl=http://www.motorola.it/collezione2004/images/A925_lat_hr.jpg&amp;imgrefurl=http://www.motorola.it/collezione2004/A925.asp&amp;h=2778&amp;w=2790&amp;sz=1082&amp;tbnid=QdkL2jMvNaEJ:&amp;tbnh=149&amp;tbnw=149&amp;start=5&amp;prev=/images%3Fq%3Dmotorola%26hl%3Dde%26lr%3D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hyperlink" Target="http://images.google.at/imgres?imgurl=http://www.logoenjoy.com/cellulari-telefonini/images/1-nokia-6100.jpg&amp;imgrefurl=http://forum.gkv.nl/showtopic.asp%3FtID%3D2263%26pageID%3D13&amp;h=335&amp;w=202&amp;sz=17&amp;tbnid=H8EVkqaUeKQJ:&amp;tbnh=114&amp;tbnw=69&amp;start=1&amp;prev=/images%3Fq%3DNokia%26hl%3Dde%26lr%3D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at/imgres?imgurl=http://www.icm.siemens.com/prod_images/mobile/C56/hires/Onyx_Front.jpg&amp;imgrefurl=http://www.icm.siemens.com/prod_images/mobile/C56/&amp;h=1500&amp;w=760&amp;sz=260&amp;tbnid=cQ0vJajm2awJ:&amp;tbnh=150&amp;tbnw=76&amp;start=29&amp;prev=/images%3Fq%3DSiemens%26start%3D20%26hl%3Dde%26lr%3D%26sa%3DN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41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9280" y="189000"/>
            <a:ext cx="896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om Handy zum 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rnetzten User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869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orte"/>
              </a:rPr>
              <a:t>Ein Projekt der 7.B Klas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orte"/>
              </a:rPr>
              <a:t>Bischöfliches Gymnasium Gra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7b_1" descr=""/>
          <p:cNvPicPr/>
          <p:nvPr/>
        </p:nvPicPr>
        <p:blipFill>
          <a:blip r:embed="rId1"/>
          <a:srcRect l="0" t="12446" r="0" b="25999"/>
          <a:stretch/>
        </p:blipFill>
        <p:spPr>
          <a:xfrm>
            <a:off x="609480" y="1523880"/>
            <a:ext cx="7391520" cy="341316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GSM: Datenübertragung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Grafik_Signalverlauf_bei_GSM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410688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GPRS: Erweiterung von G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heoretische Höchstgeschwindigkeit: 171,2 kBit/s (alle acht Zeitschlitz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atsächlich nur ca. 50 kBit/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UMTS für noch schnellere Übertrag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6ccff"/>
                </a:solidFill>
                <a:latin typeface="Verdana"/>
              </a:rPr>
              <a:t>Kost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Abrechnung nach Datenmenge, nicht nach Dau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HSCSD: Erweiterung von G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Kanalbündel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max. 4 Kanä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4  x  9,6 bis 14,4 kBit/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eiter verbreitet als HSCSD ist GP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GPRS bei fast allen neuen Mobiltelef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UM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echnik zur schnelleren Datenübertrag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Viel höhere Frequenz</a:t>
            </a:r>
            <a:br>
              <a:rPr sz="3200"/>
            </a:b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 dadurch mehr als 200-mal schnellere 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Datenübertragungsgeschwindigke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Datenaustausch wird beschleunig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Übertragungsrate: 384 kBits / S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Anderes Frequenzband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(1920 und 2170 MHz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Datenverschlüsselung durch Co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IZMF_Grafik_UMTS_Signalverlauf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132360" cy="27637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cc66"/>
                </a:solidFill>
                <a:latin typeface="Arial"/>
              </a:rPr>
              <a:t>Gefahren für Kinder und Jugendlich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 u="sng">
                <a:solidFill>
                  <a:srgbClr val="ffffff"/>
                </a:solidFill>
                <a:uFillTx/>
                <a:latin typeface="Verdana"/>
              </a:rPr>
              <a:t>Bewiesen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Ohrenschmerz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Kopfschmerz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Konzentrations= schwierigkeit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Bei Kindern aufgrund des noch nicht voll ausgebildeten Nervensystems und dünnerer Schädeldecke gesundheitliche Schäden bewiese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499000" y="1600200"/>
            <a:ext cx="2341800" cy="4530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Telefonieren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beim Autofahre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elefonieren beim Autofahren erhöht das Unfallsrisiko erhebli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Freisprecheinrichtungen sorgen nicht für mehr Sicherh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Kaum Einhaltung dieses Verb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Strafen für Handynutzung während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des Autofahrens in Europ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63800" y="1484280"/>
          <a:ext cx="70164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484280"/>
                    <a:ext cx="70164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780000" y="602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623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Öster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Gefahren des Hand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Nicht-thermische Strahlu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führt zu Kopfschmerzen, Gedächtnisverlust und Schlafstöru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beeinflusst Stabilität der Gehirnzellen und bringt Stoffwechselvorgänge in Zellen durcheinan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punkto Design wird sich ständig etwas weiterentwickeln. Außerdem werden sie immer leichter und klein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752840" cy="41148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ergieversorgung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rennstoffzelle ersetzt Akku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der abnehmbaren Ladestation des Handys befindet sich die Brennstoffzelle, die mit Methanol-Patronen befüllt wird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733920" cy="280656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ccecff"/>
                </a:solidFill>
                <a:latin typeface="Comic Sans MS"/>
              </a:rPr>
              <a:t>Nutzungsverhalten</a:t>
            </a:r>
            <a:endParaRPr b="0" lang="en-US" sz="6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Der 7 b Klas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2004/2005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ndy als Zahlungsmitt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Japan bereits erhältlich, soll es auch bei uns in geraumer Zukunft Mobiltelefone geben, die als „Geldbörsen“ (Chip) dien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 sollte dann mit dem Handy auch Strichcodes einscannen könn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2560" y="1600200"/>
            <a:ext cx="3581640" cy="4530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Österreichische Handynet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Mob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98720" y="1571760"/>
          <a:ext cx="598644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8720" y="1571760"/>
                    <a:ext cx="59864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1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ndy-Herstel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k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tor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ny-Ericss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s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76720" y="1700280"/>
          <a:ext cx="56991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00280"/>
                    <a:ext cx="56991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1000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Rage Italic"/>
              </a:rPr>
              <a:t>Verwendung pro Ta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9800" y="1415880"/>
          <a:ext cx="82789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415880"/>
                    <a:ext cx="82789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Rage Italic"/>
              </a:rPr>
              <a:t>Diens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6920" y="1701720"/>
          <a:ext cx="7399440" cy="43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39944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836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836640"/>
            <a:ext cx="1047600" cy="1297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5516640"/>
            <a:ext cx="205092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589720"/>
            <a:ext cx="1728720" cy="788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211640" y="1341360"/>
            <a:ext cx="14191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5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Rage Italic"/>
              </a:rPr>
              <a:t>Kost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484280"/>
          <a:ext cx="7176960" cy="40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1769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164360" y="404640"/>
            <a:ext cx="1781280" cy="17877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Rage Italic"/>
              </a:rPr>
              <a:t>Mark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9880" y="2125800"/>
          <a:ext cx="5496120" cy="43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125800"/>
                    <a:ext cx="54961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3860640"/>
            <a:ext cx="1136520" cy="1878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5"/>
          </p:cNvPr>
          <p:cNvPicPr/>
          <p:nvPr/>
        </p:nvPicPr>
        <p:blipFill>
          <a:blip r:embed="rId6"/>
          <a:srcRect l="7236" t="0" r="5147" b="0"/>
          <a:stretch/>
        </p:blipFill>
        <p:spPr>
          <a:xfrm>
            <a:off x="1692360" y="333360"/>
            <a:ext cx="863640" cy="1655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796000" y="549360"/>
            <a:ext cx="1065240" cy="1368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rcRect l="15644" t="0" r="14281" b="0"/>
          <a:stretch/>
        </p:blipFill>
        <p:spPr>
          <a:xfrm>
            <a:off x="7667640" y="1557360"/>
            <a:ext cx="64764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rcRect l="23075" t="0" r="23561" b="0"/>
          <a:stretch/>
        </p:blipFill>
        <p:spPr>
          <a:xfrm>
            <a:off x="5867280" y="2276640"/>
            <a:ext cx="80820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Wie ein Handy sende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achsignale werden in logische Reihen von Zahlen umgewand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null und ei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schiedene Technik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P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SCS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8:01:54Z</dcterms:created>
  <dc:creator>cpaier</dc:creator>
  <dc:description/>
  <dc:language>en-US</dc:language>
  <cp:lastModifiedBy>Bischöfliches Gymnasium</cp:lastModifiedBy>
  <dcterms:modified xsi:type="dcterms:W3CDTF">2005-06-12T09:07:53Z</dcterms:modified>
  <cp:revision>27</cp:revision>
  <dc:subject/>
  <dc:title>Folie 1</dc:title>
</cp:coreProperties>
</file>