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4D4-9BDD-466E-9D43-7873AE8B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2A6D-3BC5-4354-8B92-B5442E17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080-D4E0-49F9-84DB-0C8E65FE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444-C3F1-4FB9-A534-D0CB7D94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18BD-34CA-4B13-9D54-FBA3312E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DF0-69D2-451E-9931-C5D27151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9BC6-CA61-4902-B376-B6BA623F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26D-21DF-4E9E-BBC6-E4AD6A74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2FB-C4E6-4AB1-A730-A47EE5F7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B45-8549-4817-87B0-816DF752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44F-A145-4CA4-AAAE-7D1EA150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5FBA-7037-432D-A9B3-6460F193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476C-48EC-4312-85E4-B7253A7601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8458200" cy="1504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media.sms.at"/>
          <p:cNvPicPr/>
          <p:nvPr/>
        </p:nvPicPr>
        <p:blipFill>
          <a:blip r:embed="rId2"/>
          <a:stretch/>
        </p:blipFill>
        <p:spPr>
          <a:xfrm>
            <a:off x="3124080" y="1066680"/>
            <a:ext cx="3030480" cy="116064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Eurostile"/>
              </a:rPr>
              <a:t>Die Fi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gründet 1998 von Jürgen Pan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tlerweile 25 Mitarbei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 in der Zentrale in Gr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in der Mediasalesabteilung in W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e8"/>
                </a:solidFill>
                <a:latin typeface="Eurostile"/>
              </a:rPr>
              <a:t>Die Angeb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Bonus Ch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yspec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Handybö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Eurostile"/>
              </a:rPr>
              <a:t>Handy-Spec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ngeltö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, Poly- und Monophonklingeltö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ergrundbi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big und schwarz-wei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d-SMS und SMS-Sprü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933"/>
                </a:solidFill>
                <a:latin typeface="Eurostile"/>
              </a:rPr>
              <a:t>Dan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 bedanken uns bei d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s.at-Mitarbeitern und insbesondere bei Simone Liebmann für die freundliche Aufnahme und den interessanten Besuch bei sms.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kas Lienhart, Christan Paier, Tobias Hirschm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06:32:24Z</dcterms:created>
  <dc:creator>cpaier</dc:creator>
  <dc:description/>
  <dc:language>en-US</dc:language>
  <cp:lastModifiedBy>Bischöfliches Gymnasium</cp:lastModifiedBy>
  <dcterms:modified xsi:type="dcterms:W3CDTF">2005-06-12T08:59:25Z</dcterms:modified>
  <cp:revision>25</cp:revision>
  <dc:subject/>
  <dc:title>Folie 1</dc:title>
</cp:coreProperties>
</file>