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B80-B8CC-4DC7-B5C1-B32979A1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56D-9B16-447C-BA7D-8C194B2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9D3-F18B-465D-9943-EBDB78DC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326-FD58-46D2-9353-C592F792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B72-B1B1-4A4E-BD23-8C58B001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E36-DEDC-41B0-B880-54E5E7E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35D-3A52-4971-8DEE-FD66085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F95-9A5A-45F8-B889-4FB2A6A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EC8-F59C-4B2C-B2F8-4F8963D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5FF-BA41-47C6-A24A-BF93460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70C-1C67-4A14-91E6-3839803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30F-EABA-4697-9446-6F6CA7A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C8A-3025-4227-90E8-6416958E50D9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Zugeklapptes H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908" t="41752" r="58847" b="14075"/>
          <a:stretch/>
        </p:blipFill>
        <p:spPr>
          <a:xfrm>
            <a:off x="1908000" y="1773360"/>
            <a:ext cx="5113440" cy="420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6876720" y="2924280"/>
            <a:ext cx="647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148000" y="465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3573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484360" y="5157360"/>
            <a:ext cx="1008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328464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hr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3080" y="537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nne Kla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51960" y="44370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3440" y="25653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app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öff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Geöffnetes H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51465" t="6683" r="-185" b="8642"/>
          <a:stretch/>
        </p:blipFill>
        <p:spPr>
          <a:xfrm>
            <a:off x="2916360" y="1341360"/>
            <a:ext cx="3922560" cy="511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5076360" y="1773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564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06864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940360" y="537372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530064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9440" y="15033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5440" y="2708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7280" y="53197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öße 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ndflä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920" y="28526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ch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stilinähnli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3080" y="537372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rbe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änd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7:41:52Z</dcterms:created>
  <dc:creator>Bischöfliches Gymnasium</dc:creator>
  <dc:description/>
  <dc:language>en-US</dc:language>
  <cp:lastModifiedBy>Bischöfliches Gymnasium</cp:lastModifiedBy>
  <dcterms:modified xsi:type="dcterms:W3CDTF">2005-06-12T08:59:01Z</dcterms:modified>
  <cp:revision>3</cp:revision>
  <dc:subject/>
  <dc:title>Zugeklapptes Handy</dc:title>
</cp:coreProperties>
</file>