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69D0-C576-4360-A107-F8E30C76D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95DC-7FAD-4533-A72C-AD71699C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E9FE-D4E2-44D3-A932-D060015EE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B50D-2792-44A6-9DA1-2CC3BFA15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66F1-66EE-46D1-A5DE-B4C0F6A5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1793-3418-41EE-95E4-BBE69738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07DC-9AAA-4C27-BB42-072B23BC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CE4E-31B0-44F7-920D-4B07628D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4CED-2654-4A76-A1B9-FDDEFB18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C11D-47FA-4CA1-B3A9-FA0D08C0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F106-3ABB-4617-8782-60B29673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CF62-FABD-4212-B31A-7047C08D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ab8a"/>
            </a:gs>
            <a:gs pos="100000">
              <a:srgbClr val="9ff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118D-2984-40F6-A3E4-968E4059ACE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ab8a"/>
            </a:gs>
            <a:gs pos="100000">
              <a:srgbClr val="9ff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83808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Kurze Übersicht der Betreib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685800" y="3124080"/>
            <a:ext cx="9448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obias Hirschmann,    Lukas Lienhart    &amp;    Christian Paier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© 2004/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ab8a"/>
            </a:gs>
            <a:gs pos="100000">
              <a:srgbClr val="9ff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416720" y="6281640"/>
            <a:ext cx="1727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4920" y="1197000"/>
          <a:ext cx="9074160" cy="3976560"/>
        </p:xfrm>
        <a:graphic>
          <a:graphicData uri="http://schemas.openxmlformats.org/drawingml/2006/table">
            <a:tbl>
              <a:tblPr/>
              <a:tblGrid>
                <a:gridCol w="1224000"/>
                <a:gridCol w="1584360"/>
                <a:gridCol w="1800000"/>
                <a:gridCol w="1297080"/>
                <a:gridCol w="1800360"/>
                <a:gridCol w="1368360"/>
              </a:tblGrid>
              <a:tr h="1145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381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4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c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4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c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4ff"/>
                    </a:solidFill>
                  </a:tcPr>
                </a:tc>
              </a:tr>
              <a:tr h="740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arbei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381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4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5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c6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aa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c6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aa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c6ff"/>
                    </a:solidFill>
                  </a:tcPr>
                </a:tc>
              </a:tr>
              <a:tr h="703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nd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381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c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37.7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163.2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aa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3d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4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aa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0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3d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.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aaff"/>
                    </a:solidFill>
                  </a:tcPr>
                </a:tc>
              </a:tr>
              <a:tr h="633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381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4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c6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aa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 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c6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aa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,4 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 A1 net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c6ff"/>
                    </a:solidFill>
                  </a:tcPr>
                </a:tc>
              </a:tr>
              <a:tr h="75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sa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381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81c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3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o €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1faa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3,2 Mio 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0083d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1faa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 ersten Halbjahr 2004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355 Mio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0083d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1faaff"/>
                    </a:solidFill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0" y="5877000"/>
            <a:ext cx="914400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hlen von 2003. Inklusiv den Werken i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Kroati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oweni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Lichtenste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Rein Österreichische Zahlen in Kl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lle: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A1.ne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;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T-mobile.a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;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tele-ring.a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;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one.a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;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drei.a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771640" y="1628640"/>
            <a:ext cx="2014560" cy="233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0" t="13661" r="33333" b="22723"/>
          <a:stretch/>
        </p:blipFill>
        <p:spPr>
          <a:xfrm>
            <a:off x="6372360" y="1413000"/>
            <a:ext cx="1008000" cy="503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rcRect l="3127" t="11198" r="7818" b="5530"/>
          <a:stretch/>
        </p:blipFill>
        <p:spPr>
          <a:xfrm>
            <a:off x="8101080" y="1268280"/>
            <a:ext cx="709560" cy="938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476360" y="1484280"/>
            <a:ext cx="1085760" cy="495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www.telering.at"/>
          <p:cNvPicPr/>
          <p:nvPr/>
        </p:nvPicPr>
        <p:blipFill>
          <a:blip r:embed="rId6"/>
          <a:stretch/>
        </p:blipFill>
        <p:spPr>
          <a:xfrm>
            <a:off x="4932360" y="1413000"/>
            <a:ext cx="6494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2:44:27Z</dcterms:created>
  <dc:creator>cpaier</dc:creator>
  <dc:description/>
  <dc:language>en-US</dc:language>
  <cp:lastModifiedBy>Bischöfliches Gymnasium</cp:lastModifiedBy>
  <dcterms:modified xsi:type="dcterms:W3CDTF">2005-06-12T08:58:13Z</dcterms:modified>
  <cp:revision>5</cp:revision>
  <dc:subject/>
  <dc:title>Folie 1</dc:title>
</cp:coreProperties>
</file>