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975A-DDFF-49E6-9064-E2E8778C5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E3AB-64EB-47AF-AF62-D97BE05E5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59C6-6674-45CB-83F6-482428845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9792-DCD4-47DA-ABDC-EE93EE142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B3C8D-1BA2-4161-824A-89005257E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9B405-DC2C-4690-9B6C-E30F7D4C9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074EF-7C7F-4F4B-BDC8-68175DBC6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ADD46-3B41-4412-A9E2-2817A57C7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DBF95-908A-4C95-8A17-989F433CB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39CC1-E850-4E41-8AF8-2C8F44244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5CB96-5913-4607-8123-52DA32DFC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99C2-753E-44B0-AEE1-D7249228E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C2A91-CA10-424D-BC0A-9A4CA73A3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3325C-D41F-4D65-BD7B-ACDD8A56F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F0206-5BC1-48FD-BC15-54C2359F8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B85F2-40B6-4853-81E8-676217188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7CA2F-753B-4630-89AF-8E1B72366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EFD9-8B64-410E-98C0-1FDAC59F2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6F3F-3F44-47E6-BEB9-4F03C820F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A7B1-FD95-4ACF-B7F2-2D1AE9C15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7BC9-A739-4D3B-A4FE-175048489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6BE6-16F2-4687-ABF3-535177753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A940-3F8F-4834-B28C-B630BD9C5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3241-0D29-4399-BEBC-78ABC3F83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7F9F4-E1A0-45A1-A7CD-0BDAC41DDD1E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C0E39-90FF-44E4-8CF6-7D8C10CBE7C7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enguiat Bk BT"/>
              </a:rPr>
              <a:t>Stand der Technik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 Extra Bold"/>
              </a:rPr>
              <a:t>Was kann ein Handy von heute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Benguiat Bk BT"/>
              </a:rPr>
              <a:t>Program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 Extra Bold"/>
              </a:rPr>
              <a:t>Einleitun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 Extra Bold"/>
              </a:rPr>
              <a:t>Was kann jedes Handy von heute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 Extra Bold"/>
              </a:rPr>
              <a:t>Was findet man an Menüoptionen in einem Handy von heute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 Extra Bold"/>
              </a:rPr>
              <a:t>Gefahren des Handy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 Extra Bold"/>
              </a:rPr>
              <a:t>Wie kann Mann oder  Frau sich schützen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 Extra Bold"/>
              </a:rPr>
              <a:t>Endresümee und Weitergabe an „Zukunft des Handys“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3b7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3b7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3b7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3b7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3b7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1" dur="1" fill="hold"/>
                                  <p:tgtEl>
                                    <p:spTgt spid="15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3b7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Benguiat Bk BT"/>
              </a:rPr>
              <a:t>Braucht man ein Handy nur zum Telefonieren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900000" y="1409760"/>
            <a:ext cx="7264440" cy="54482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Benguiat Bk BT"/>
              </a:rPr>
              <a:t>Oder doch für mehr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468360" y="1569960"/>
            <a:ext cx="8207280" cy="615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Benguiat Bk BT"/>
              </a:rPr>
              <a:t>Was kann jedes Handy von heute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Rockwell Extra Bold"/>
              </a:rPr>
              <a:t>Telefonier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Rockwell Extra Bold"/>
              </a:rPr>
              <a:t>Mitteilungen verschicken und empfang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Rockwell Extra Bold"/>
              </a:rPr>
              <a:t>Telefonnummern speichern und diese wiedergeb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Rockwell Extra Bold"/>
              </a:rPr>
              <a:t>Einstellungen verändern (z.B.: Rufton(Lautstärke), usw.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8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8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8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8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Benguiat Bk BT"/>
              </a:rPr>
              <a:t>Menüoptionen eines Handys von heute (Nokia 6230)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 Extra Bold"/>
              </a:rPr>
              <a:t>Mitteilung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 Extra Bold"/>
              </a:rPr>
              <a:t>Anruflist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 Extra Bold"/>
              </a:rPr>
              <a:t>Adressbuch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 Extra Bold"/>
              </a:rPr>
              <a:t>Einstellung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 Extra Bold"/>
              </a:rPr>
              <a:t>Galerie und Medi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 Extra Bold"/>
              </a:rPr>
              <a:t>Organize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 Extra Bold"/>
              </a:rPr>
              <a:t>Programm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 Extra Bold"/>
              </a:rPr>
              <a:t>Dienst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796000" y="2708280"/>
            <a:ext cx="3132000" cy="2349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898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898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898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898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898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898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898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898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898" fill="hold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Benguiat Bk BT"/>
              </a:rPr>
              <a:t>Gefahren des Handy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 Extra Bold"/>
              </a:rPr>
              <a:t>Nicht-thermische Strahlung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Rockwell Ex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 Extra Bold"/>
              </a:rPr>
              <a:t>führt zu Kopfschmerzen, Gedächtnisverlust und Schlafstörunge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Rockwell Ex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 Extra Bold"/>
              </a:rPr>
              <a:t>beeinflusst Stabilität der Gehirnzellen und bringt Stoffwechselvorgänge in Zellen durcheinande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 Extra Bold"/>
              </a:rPr>
              <a:t>Gefahr vor allem für Jugendliche, da Gehirn noch im Wachstumsstadium befinde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Benguiat Bk BT"/>
              </a:rPr>
              <a:t>Wie kann Mann oder Frau sich schützen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Rockwell Extra Bold"/>
              </a:rPr>
              <a:t>Die Handybranche hat angekündigt folgende Informationen zu veröffentlichen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Rockwell Extra Bold"/>
              </a:rPr>
              <a:t>Spezifische Absorptionsrate (SAR-Wert) des Geräts während des Telefonierens (=Strahlungsrate die der Körper aufnimmt während dem Telefonieren) und eine Einstufung in „gering, mittel und stark“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Rockwell Extra Bold"/>
              </a:rPr>
              <a:t>Da selbst bei geringer Strahlung Schäden davongezogen werden können wird eine Grenze von 0,2 Watt/kgverlangt. Dies ist technisch möglich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2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Benguiat Bk BT"/>
              </a:rPr>
              <a:t>Endresüme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 Extra Bold"/>
              </a:rPr>
              <a:t>Handys sind ständige Begleiter und dienen uns mit ihrem Fortschritt nicht nur um von A nach B zu telefonieren, sondern lassen uns stets die neuesten News zu empfangen. Was jedoch in der Zukunft kommt wird Ihnen die nächste Präsentation näher bringen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 Extra Bold"/>
              </a:rPr>
              <a:t>Danke für ihr Interess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d"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245" dur="2000" fill="hold"/>
                                        <p:tgtEl>
                                          <p:spTgt spid="1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9T06:33:14Z</dcterms:created>
  <dc:creator>lkronberger</dc:creator>
  <dc:description/>
  <dc:language>en-US</dc:language>
  <cp:lastModifiedBy>Bischöfliches Gymnasium</cp:lastModifiedBy>
  <dcterms:modified xsi:type="dcterms:W3CDTF">2005-06-12T09:16:22Z</dcterms:modified>
  <cp:revision>6</cp:revision>
  <dc:subject/>
  <dc:title>Stand der Technik</dc:title>
</cp:coreProperties>
</file>